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10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907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99061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9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5611680" y="-360"/>
            <a:ext cx="4291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6539040"/>
            <a:ext cx="4290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F85D6-DF3F-4B23-82F3-60AB4A5D75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6D83A-1ACE-43C6-86E8-03A12CB7CB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F91C7-1D89-4E92-B2AC-0C86485CC5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929CE-2BDD-42C5-A444-1515C11EF9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CF764-7FF8-413B-93F9-DB69508BF8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FC9AE-9B30-4854-8420-E50FECE0CD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A1B2C-D54A-419F-A2BA-5F4532ADAB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FA160-C72A-4EB2-998D-E14C18FEA2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80AA0-C1B9-46BE-A51A-3CEBC9F632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E425D-E475-4EE1-8D06-0842005365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C303E-0F57-438B-BE50-8C550B1392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766AB-A9FA-4A6C-9ABD-A0F23B3CDD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9992B-E9A9-497D-8C73-BEF99293B7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33245F-338B-4B26-9F81-46AEB5F46F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6A220-43F5-4B39-8051-14238F426DC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57E9B-5FF1-400F-8E28-42030B0881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AA3AC-78FE-48AF-B33D-B182DF2629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11434-D831-4C1A-BC6C-9EA5680843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AA5-62A5-4722-93FA-5B7AB76CF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647-3B8B-4869-A7AE-805BF36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DC5-8210-4D55-883E-835DAC29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96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464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96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464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FBB5-6EDF-40A8-AB11-C7E5CA1C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A24-6CBB-45EB-B5F8-AC5C9850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996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464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996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464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013-46BD-4643-A842-4E6AAA11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E56-608A-4F3B-AE1F-67589B0C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867-FE2C-4ACC-8152-0CE21751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DE4-1D8C-49C6-A5AD-9DF6D732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208-6EF1-46C1-BE39-9ECE8BA4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716-14D3-44CA-9161-F97E420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8FB4-83D3-4D3D-8520-6A41135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75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675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675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6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20"/>
          <p:cNvGrpSpPr/>
          <p:nvPr/>
        </p:nvGrpSpPr>
        <p:grpSpPr>
          <a:xfrm>
            <a:off x="0" y="790560"/>
            <a:ext cx="9144000" cy="208080"/>
            <a:chOff x="0" y="790560"/>
            <a:chExt cx="9144000" cy="208080"/>
          </a:xfrm>
        </p:grpSpPr>
        <p:sp>
          <p:nvSpPr>
            <p:cNvPr id="3" name="Rectangle 6"/>
            <p:cNvSpPr/>
            <p:nvPr/>
          </p:nvSpPr>
          <p:spPr>
            <a:xfrm>
              <a:off x="0" y="790560"/>
              <a:ext cx="9144000" cy="18756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17"/>
            <p:cNvSpPr/>
            <p:nvPr/>
          </p:nvSpPr>
          <p:spPr>
            <a:xfrm>
              <a:off x="0" y="97020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21"/>
          <p:cNvGrpSpPr/>
          <p:nvPr/>
        </p:nvGrpSpPr>
        <p:grpSpPr>
          <a:xfrm>
            <a:off x="0" y="6640560"/>
            <a:ext cx="9144000" cy="217440"/>
            <a:chOff x="0" y="6640560"/>
            <a:chExt cx="9144000" cy="217440"/>
          </a:xfrm>
        </p:grpSpPr>
        <p:sp>
          <p:nvSpPr>
            <p:cNvPr id="6" name="Rectangle 3"/>
            <p:cNvSpPr/>
            <p:nvPr/>
          </p:nvSpPr>
          <p:spPr>
            <a:xfrm>
              <a:off x="0" y="6669000"/>
              <a:ext cx="9144000" cy="18900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19"/>
            <p:cNvSpPr/>
            <p:nvPr/>
          </p:nvSpPr>
          <p:spPr>
            <a:xfrm>
              <a:off x="0" y="664056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4920" y="6453000"/>
            <a:ext cx="19634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268000" y="6453000"/>
            <a:ext cx="5502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2040" y="6453000"/>
            <a:ext cx="10652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62928E-F0AA-44D5-8E91-88D0C0AAD6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6" descr="bandeau-sans-texte"/>
          <p:cNvPicPr/>
          <p:nvPr/>
        </p:nvPicPr>
        <p:blipFill>
          <a:blip r:embed="rId2"/>
          <a:srcRect l="1056" t="0" r="0" b="0"/>
          <a:stretch/>
        </p:blipFill>
        <p:spPr>
          <a:xfrm>
            <a:off x="0" y="0"/>
            <a:ext cx="918828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3" descr="Image2.bmp"/>
          <p:cNvPicPr/>
          <p:nvPr/>
        </p:nvPicPr>
        <p:blipFill>
          <a:blip r:embed="rId2"/>
          <a:stretch/>
        </p:blipFill>
        <p:spPr>
          <a:xfrm>
            <a:off x="7613640" y="5394240"/>
            <a:ext cx="1536840" cy="14637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"/>
          <p:cNvGrpSpPr/>
          <p:nvPr/>
        </p:nvGrpSpPr>
        <p:grpSpPr>
          <a:xfrm>
            <a:off x="0" y="0"/>
            <a:ext cx="9144000" cy="208080"/>
            <a:chOff x="0" y="0"/>
            <a:chExt cx="9144000" cy="208080"/>
          </a:xfrm>
        </p:grpSpPr>
        <p:sp>
          <p:nvSpPr>
            <p:cNvPr id="50" name="Rectangle 6"/>
            <p:cNvSpPr/>
            <p:nvPr/>
          </p:nvSpPr>
          <p:spPr>
            <a:xfrm>
              <a:off x="0" y="0"/>
              <a:ext cx="9144000" cy="18756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17964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" name="Picture 32" descr="1102046_84848619"/>
          <p:cNvPicPr/>
          <p:nvPr/>
        </p:nvPicPr>
        <p:blipFill>
          <a:blip r:embed="rId3"/>
          <a:srcRect l="0" t="0" r="0" b="5411"/>
          <a:stretch/>
        </p:blipFill>
        <p:spPr>
          <a:xfrm>
            <a:off x="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1121894_55941276"/>
          <p:cNvPicPr/>
          <p:nvPr/>
        </p:nvPicPr>
        <p:blipFill>
          <a:blip r:embed="rId4"/>
          <a:srcRect l="0" t="0" r="0" b="5319"/>
          <a:stretch/>
        </p:blipFill>
        <p:spPr>
          <a:xfrm>
            <a:off x="1521000" y="5416560"/>
            <a:ext cx="152208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1160562_32750485"/>
          <p:cNvPicPr/>
          <p:nvPr/>
        </p:nvPicPr>
        <p:blipFill>
          <a:blip r:embed="rId5"/>
          <a:srcRect l="0" t="0" r="0" b="5411"/>
          <a:stretch/>
        </p:blipFill>
        <p:spPr>
          <a:xfrm>
            <a:off x="304308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1154210_96382957"/>
          <p:cNvPicPr/>
          <p:nvPr/>
        </p:nvPicPr>
        <p:blipFill>
          <a:blip r:embed="rId6"/>
          <a:srcRect l="0" t="0" r="0" b="5419"/>
          <a:stretch/>
        </p:blipFill>
        <p:spPr>
          <a:xfrm>
            <a:off x="609588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" descr="001"/>
          <p:cNvPicPr/>
          <p:nvPr/>
        </p:nvPicPr>
        <p:blipFill>
          <a:blip r:embed="rId7"/>
          <a:srcRect l="0" t="0" r="0" b="5414"/>
          <a:stretch/>
        </p:blipFill>
        <p:spPr>
          <a:xfrm>
            <a:off x="4565520" y="5415120"/>
            <a:ext cx="1525680" cy="1442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0" y="5199120"/>
            <a:ext cx="9144000" cy="217440"/>
            <a:chOff x="0" y="5199120"/>
            <a:chExt cx="9144000" cy="217440"/>
          </a:xfrm>
        </p:grpSpPr>
        <p:sp>
          <p:nvSpPr>
            <p:cNvPr id="58" name="Rectangle 9"/>
            <p:cNvSpPr/>
            <p:nvPr/>
          </p:nvSpPr>
          <p:spPr>
            <a:xfrm>
              <a:off x="0" y="5227560"/>
              <a:ext cx="9144000" cy="18900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519912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Text Box 38"/>
          <p:cNvSpPr/>
          <p:nvPr/>
        </p:nvSpPr>
        <p:spPr>
          <a:xfrm>
            <a:off x="1258920" y="836640"/>
            <a:ext cx="3313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39"/>
          <p:cNvSpPr/>
          <p:nvPr/>
        </p:nvSpPr>
        <p:spPr>
          <a:xfrm>
            <a:off x="179280" y="1844640"/>
            <a:ext cx="5616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>
                <a:solidFill>
                  <a:srgbClr val="2d487b"/>
                </a:solidFill>
                <a:latin typeface="Arial"/>
              </a:rPr>
              <a:t>Projet ORI-OAI</a:t>
            </a:r>
            <a:br>
              <a:rPr sz="2600"/>
            </a:b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O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util de 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R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éférencement et d’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ndexation</a:t>
            </a:r>
            <a:br>
              <a:rPr sz="2400"/>
            </a:b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Réseau de portails 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0" descr="ori-sans-org"/>
          <p:cNvPicPr/>
          <p:nvPr/>
        </p:nvPicPr>
        <p:blipFill>
          <a:blip r:embed="rId8"/>
          <a:stretch/>
        </p:blipFill>
        <p:spPr>
          <a:xfrm>
            <a:off x="5867280" y="404640"/>
            <a:ext cx="2376720" cy="2181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75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675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675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6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660320" y="4321080"/>
            <a:ext cx="73040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1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IUEN, 15 juin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708360" y="3428640"/>
            <a:ext cx="52531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 une généralisation du projet et évolution des fonctionnal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811080" y="3645000"/>
            <a:ext cx="1938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Espace réservé de la date 30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Espace réservé du pied de page 31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698869-FFC8-44DB-8E33-A2E321FDAA7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AutoShape 110"/>
          <p:cNvGrpSpPr/>
          <p:nvPr/>
        </p:nvGrpSpPr>
        <p:grpSpPr>
          <a:xfrm>
            <a:off x="2871720" y="2328840"/>
            <a:ext cx="3327480" cy="2395440"/>
            <a:chOff x="2871720" y="2328840"/>
            <a:chExt cx="3327480" cy="2395440"/>
          </a:xfrm>
        </p:grpSpPr>
        <p:pic>
          <p:nvPicPr>
            <p:cNvPr id="170" name="AutoShape 110" descr=""/>
            <p:cNvPicPr/>
            <p:nvPr/>
          </p:nvPicPr>
          <p:blipFill>
            <a:blip r:embed="rId1"/>
            <a:stretch/>
          </p:blipFill>
          <p:spPr>
            <a:xfrm>
              <a:off x="2871720" y="2328840"/>
              <a:ext cx="33274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30400" y="2359080"/>
              <a:ext cx="321156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99" descr="ddimage2"/>
          <p:cNvPicPr/>
          <p:nvPr/>
        </p:nvPicPr>
        <p:blipFill>
          <a:blip r:embed="rId2"/>
          <a:stretch/>
        </p:blipFill>
        <p:spPr>
          <a:xfrm>
            <a:off x="6504120" y="4900680"/>
            <a:ext cx="2341440" cy="3036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0" descr="ddimage3"/>
          <p:cNvPicPr/>
          <p:nvPr/>
        </p:nvPicPr>
        <p:blipFill>
          <a:blip r:embed="rId3"/>
          <a:stretch/>
        </p:blipFill>
        <p:spPr>
          <a:xfrm>
            <a:off x="6718320" y="2682720"/>
            <a:ext cx="237636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Groupe 29" descr=""/>
          <p:cNvPicPr/>
          <p:nvPr/>
        </p:nvPicPr>
        <p:blipFill>
          <a:blip r:embed="rId4"/>
          <a:stretch/>
        </p:blipFill>
        <p:spPr>
          <a:xfrm>
            <a:off x="6357960" y="542880"/>
            <a:ext cx="2378160" cy="303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6" descr="ddimage7"/>
          <p:cNvPicPr/>
          <p:nvPr/>
        </p:nvPicPr>
        <p:blipFill>
          <a:blip r:embed="rId5"/>
          <a:stretch/>
        </p:blipFill>
        <p:spPr>
          <a:xfrm>
            <a:off x="3359160" y="682560"/>
            <a:ext cx="2340000" cy="304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7" descr="ddimage8"/>
          <p:cNvPicPr/>
          <p:nvPr/>
        </p:nvPicPr>
        <p:blipFill>
          <a:blip r:embed="rId6"/>
          <a:stretch/>
        </p:blipFill>
        <p:spPr>
          <a:xfrm>
            <a:off x="371520" y="4900680"/>
            <a:ext cx="2341440" cy="3036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8" descr="ddimage9"/>
          <p:cNvPicPr/>
          <p:nvPr/>
        </p:nvPicPr>
        <p:blipFill>
          <a:blip r:embed="rId7"/>
          <a:stretch/>
        </p:blipFill>
        <p:spPr>
          <a:xfrm>
            <a:off x="3371760" y="4900680"/>
            <a:ext cx="2340000" cy="3036960"/>
          </a:xfrm>
          <a:prstGeom prst="rect">
            <a:avLst/>
          </a:prstGeom>
          <a:ln w="0">
            <a:noFill/>
          </a:ln>
        </p:spPr>
      </p:pic>
      <p:grpSp>
        <p:nvGrpSpPr>
          <p:cNvPr id="178" name="AutoShape 55"/>
          <p:cNvGrpSpPr/>
          <p:nvPr/>
        </p:nvGrpSpPr>
        <p:grpSpPr>
          <a:xfrm>
            <a:off x="5138640" y="3200400"/>
            <a:ext cx="2237040" cy="895320"/>
            <a:chOff x="5138640" y="3200400"/>
            <a:chExt cx="2237040" cy="895320"/>
          </a:xfrm>
        </p:grpSpPr>
        <p:pic>
          <p:nvPicPr>
            <p:cNvPr id="179" name="AutoShape 55" descr=""/>
            <p:cNvPicPr/>
            <p:nvPr/>
          </p:nvPicPr>
          <p:blipFill>
            <a:blip r:embed="rId8"/>
            <a:stretch/>
          </p:blipFill>
          <p:spPr>
            <a:xfrm>
              <a:off x="5138640" y="3200400"/>
              <a:ext cx="2237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00800" y="321480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reposi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pôt d'exposition des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AutoShape 57"/>
          <p:cNvGrpSpPr/>
          <p:nvPr/>
        </p:nvGrpSpPr>
        <p:grpSpPr>
          <a:xfrm>
            <a:off x="3213000" y="2127240"/>
            <a:ext cx="2376720" cy="901800"/>
            <a:chOff x="3213000" y="2127240"/>
            <a:chExt cx="2376720" cy="901800"/>
          </a:xfrm>
        </p:grpSpPr>
        <p:pic>
          <p:nvPicPr>
            <p:cNvPr id="182" name="AutoShape 57" descr=""/>
            <p:cNvPicPr/>
            <p:nvPr/>
          </p:nvPicPr>
          <p:blipFill>
            <a:blip r:embed="rId9"/>
            <a:stretch/>
          </p:blipFill>
          <p:spPr>
            <a:xfrm>
              <a:off x="3213000" y="2127240"/>
              <a:ext cx="2376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571920" y="2143080"/>
              <a:ext cx="20001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UP-ECM + ORI-OAI-nuxe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age des documen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gestion des authentification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AutoShape 58"/>
          <p:cNvGrpSpPr/>
          <p:nvPr/>
        </p:nvGrpSpPr>
        <p:grpSpPr>
          <a:xfrm>
            <a:off x="3286080" y="4340160"/>
            <a:ext cx="2230560" cy="897120"/>
            <a:chOff x="3286080" y="4340160"/>
            <a:chExt cx="2230560" cy="897120"/>
          </a:xfrm>
        </p:grpSpPr>
        <p:pic>
          <p:nvPicPr>
            <p:cNvPr id="185" name="AutoShape 58" descr=""/>
            <p:cNvPicPr/>
            <p:nvPr/>
          </p:nvPicPr>
          <p:blipFill>
            <a:blip r:embed="rId10"/>
            <a:stretch/>
          </p:blipFill>
          <p:spPr>
            <a:xfrm>
              <a:off x="3286080" y="4340160"/>
              <a:ext cx="22305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643200" y="4357800"/>
              <a:ext cx="1857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vocabula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e vocabulair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AutoShape 59"/>
          <p:cNvGrpSpPr/>
          <p:nvPr/>
        </p:nvGrpSpPr>
        <p:grpSpPr>
          <a:xfrm>
            <a:off x="5638680" y="1841400"/>
            <a:ext cx="2237040" cy="895320"/>
            <a:chOff x="5638680" y="1841400"/>
            <a:chExt cx="2237040" cy="895320"/>
          </a:xfrm>
        </p:grpSpPr>
        <p:pic>
          <p:nvPicPr>
            <p:cNvPr id="188" name="AutoShape 59" descr=""/>
            <p:cNvPicPr/>
            <p:nvPr/>
          </p:nvPicPr>
          <p:blipFill>
            <a:blip r:embed="rId11"/>
            <a:stretch/>
          </p:blipFill>
          <p:spPr>
            <a:xfrm>
              <a:off x="5638680" y="1841400"/>
              <a:ext cx="2237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000840" y="185724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harvest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issonneur de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AutoShape 60"/>
          <p:cNvGrpSpPr/>
          <p:nvPr/>
        </p:nvGrpSpPr>
        <p:grpSpPr>
          <a:xfrm>
            <a:off x="927000" y="4498920"/>
            <a:ext cx="2230560" cy="895320"/>
            <a:chOff x="927000" y="4498920"/>
            <a:chExt cx="2230560" cy="895320"/>
          </a:xfrm>
        </p:grpSpPr>
        <p:pic>
          <p:nvPicPr>
            <p:cNvPr id="191" name="AutoShape 60" descr=""/>
            <p:cNvPicPr/>
            <p:nvPr/>
          </p:nvPicPr>
          <p:blipFill>
            <a:blip r:embed="rId12"/>
            <a:stretch/>
          </p:blipFill>
          <p:spPr>
            <a:xfrm>
              <a:off x="927000" y="4498920"/>
              <a:ext cx="2230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285920" y="451476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index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'indexa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AutoShape 61"/>
          <p:cNvGrpSpPr/>
          <p:nvPr/>
        </p:nvGrpSpPr>
        <p:grpSpPr>
          <a:xfrm>
            <a:off x="5572080" y="4486320"/>
            <a:ext cx="2230560" cy="896760"/>
            <a:chOff x="5572080" y="4486320"/>
            <a:chExt cx="2230560" cy="896760"/>
          </a:xfrm>
        </p:grpSpPr>
        <p:pic>
          <p:nvPicPr>
            <p:cNvPr id="194" name="AutoShape 61" descr=""/>
            <p:cNvPicPr/>
            <p:nvPr/>
          </p:nvPicPr>
          <p:blipFill>
            <a:blip r:embed="rId13"/>
            <a:stretch/>
          </p:blipFill>
          <p:spPr>
            <a:xfrm>
              <a:off x="5572080" y="4486320"/>
              <a:ext cx="22305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929200" y="4500720"/>
              <a:ext cx="1857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searc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e recherch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6" name="Picture 115" descr="ddimage6"/>
          <p:cNvPicPr/>
          <p:nvPr/>
        </p:nvPicPr>
        <p:blipFill>
          <a:blip r:embed="rId14"/>
          <a:stretch/>
        </p:blipFill>
        <p:spPr>
          <a:xfrm>
            <a:off x="73080" y="2682720"/>
            <a:ext cx="23414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7" name="AutoShape 116"/>
          <p:cNvGrpSpPr/>
          <p:nvPr/>
        </p:nvGrpSpPr>
        <p:grpSpPr>
          <a:xfrm>
            <a:off x="1285920" y="3200400"/>
            <a:ext cx="2232000" cy="895320"/>
            <a:chOff x="1285920" y="3200400"/>
            <a:chExt cx="2232000" cy="895320"/>
          </a:xfrm>
        </p:grpSpPr>
        <p:pic>
          <p:nvPicPr>
            <p:cNvPr id="198" name="AutoShape 116" descr=""/>
            <p:cNvPicPr/>
            <p:nvPr/>
          </p:nvPicPr>
          <p:blipFill>
            <a:blip r:embed="rId15"/>
            <a:stretch/>
          </p:blipFill>
          <p:spPr>
            <a:xfrm>
              <a:off x="1285920" y="3200400"/>
              <a:ext cx="22320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643040" y="321480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md-edit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diteur de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117" descr="ddimage5"/>
          <p:cNvPicPr/>
          <p:nvPr/>
        </p:nvPicPr>
        <p:blipFill>
          <a:blip r:embed="rId16"/>
          <a:stretch/>
        </p:blipFill>
        <p:spPr>
          <a:xfrm>
            <a:off x="334800" y="542880"/>
            <a:ext cx="2378160" cy="3035520"/>
          </a:xfrm>
          <a:prstGeom prst="rect">
            <a:avLst/>
          </a:prstGeom>
          <a:ln w="0">
            <a:noFill/>
          </a:ln>
        </p:spPr>
      </p:pic>
      <p:grpSp>
        <p:nvGrpSpPr>
          <p:cNvPr id="201" name="AutoShape 118"/>
          <p:cNvGrpSpPr/>
          <p:nvPr/>
        </p:nvGrpSpPr>
        <p:grpSpPr>
          <a:xfrm>
            <a:off x="927000" y="1841400"/>
            <a:ext cx="2230560" cy="895320"/>
            <a:chOff x="927000" y="1841400"/>
            <a:chExt cx="2230560" cy="895320"/>
          </a:xfrm>
        </p:grpSpPr>
        <p:pic>
          <p:nvPicPr>
            <p:cNvPr id="202" name="AutoShape 118" descr=""/>
            <p:cNvPicPr/>
            <p:nvPr/>
          </p:nvPicPr>
          <p:blipFill>
            <a:blip r:embed="rId17"/>
            <a:stretch/>
          </p:blipFill>
          <p:spPr>
            <a:xfrm>
              <a:off x="927000" y="1841400"/>
              <a:ext cx="2230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285920" y="185724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worf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u workflow de saisi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4" name="Picture 119" descr="ori-sans-org"/>
          <p:cNvPicPr/>
          <p:nvPr/>
        </p:nvPicPr>
        <p:blipFill>
          <a:blip r:embed="rId18"/>
          <a:stretch/>
        </p:blipFill>
        <p:spPr>
          <a:xfrm>
            <a:off x="3786120" y="2859120"/>
            <a:ext cx="1425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Architecture complè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C8235E-1C07-4F8D-B919-D145CFA6B72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22560" y="5589360"/>
            <a:ext cx="252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8 modu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ropér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"/>
          <p:cNvSpPr/>
          <p:nvPr/>
        </p:nvSpPr>
        <p:spPr>
          <a:xfrm flipH="1" flipV="1">
            <a:off x="2974680" y="2071440"/>
            <a:ext cx="1927080" cy="121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 flipV="1">
            <a:off x="6702480" y="371628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1878120" y="2205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814480" y="3429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1878120" y="3716280"/>
            <a:ext cx="144360" cy="64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038480" y="2205000"/>
            <a:ext cx="0" cy="230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4541760" y="2205000"/>
            <a:ext cx="7923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Rectangle 10"/>
          <p:cNvGrpSpPr/>
          <p:nvPr/>
        </p:nvGrpSpPr>
        <p:grpSpPr>
          <a:xfrm>
            <a:off x="328680" y="1542960"/>
            <a:ext cx="2663640" cy="987480"/>
            <a:chOff x="328680" y="1542960"/>
            <a:chExt cx="2663640" cy="987480"/>
          </a:xfrm>
        </p:grpSpPr>
        <p:pic>
          <p:nvPicPr>
            <p:cNvPr id="218" name="Rectangle 10" descr=""/>
            <p:cNvPicPr/>
            <p:nvPr/>
          </p:nvPicPr>
          <p:blipFill>
            <a:blip r:embed="rId1"/>
            <a:stretch/>
          </p:blipFill>
          <p:spPr>
            <a:xfrm>
              <a:off x="328680" y="1542960"/>
              <a:ext cx="2663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9040" y="1557360"/>
              <a:ext cx="228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UP-ECM+ORI-OAI-nuxe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age des documents 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 des authentif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Rectangle 11"/>
          <p:cNvGrpSpPr/>
          <p:nvPr/>
        </p:nvGrpSpPr>
        <p:grpSpPr>
          <a:xfrm>
            <a:off x="3029040" y="1542960"/>
            <a:ext cx="2390760" cy="987480"/>
            <a:chOff x="3029040" y="1542960"/>
            <a:chExt cx="2390760" cy="987480"/>
          </a:xfrm>
        </p:grpSpPr>
        <p:pic>
          <p:nvPicPr>
            <p:cNvPr id="221" name="Rectangle 11" descr=""/>
            <p:cNvPicPr/>
            <p:nvPr/>
          </p:nvPicPr>
          <p:blipFill>
            <a:blip r:embed="rId2"/>
            <a:stretch/>
          </p:blipFill>
          <p:spPr>
            <a:xfrm>
              <a:off x="3029040" y="1542960"/>
              <a:ext cx="239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89400" y="155736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pôt d’exposi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Rectangle 12"/>
          <p:cNvGrpSpPr/>
          <p:nvPr/>
        </p:nvGrpSpPr>
        <p:grpSpPr>
          <a:xfrm>
            <a:off x="4541760" y="3054240"/>
            <a:ext cx="2389320" cy="987480"/>
            <a:chOff x="4541760" y="3054240"/>
            <a:chExt cx="2389320" cy="987480"/>
          </a:xfrm>
        </p:grpSpPr>
        <p:pic>
          <p:nvPicPr>
            <p:cNvPr id="22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41760" y="3054240"/>
              <a:ext cx="238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902120" y="3068640"/>
              <a:ext cx="201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index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’index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Rectangle 13"/>
          <p:cNvGrpSpPr/>
          <p:nvPr/>
        </p:nvGrpSpPr>
        <p:grpSpPr>
          <a:xfrm>
            <a:off x="512640" y="3054240"/>
            <a:ext cx="2389320" cy="987480"/>
            <a:chOff x="512640" y="3054240"/>
            <a:chExt cx="2389320" cy="987480"/>
          </a:xfrm>
        </p:grpSpPr>
        <p:pic>
          <p:nvPicPr>
            <p:cNvPr id="227" name="Rectangle 13" descr=""/>
            <p:cNvPicPr/>
            <p:nvPr/>
          </p:nvPicPr>
          <p:blipFill>
            <a:blip r:embed="rId4"/>
            <a:stretch/>
          </p:blipFill>
          <p:spPr>
            <a:xfrm>
              <a:off x="512640" y="3054240"/>
              <a:ext cx="238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70120" y="306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u workf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saisie des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Rectangle 14"/>
          <p:cNvGrpSpPr/>
          <p:nvPr/>
        </p:nvGrpSpPr>
        <p:grpSpPr>
          <a:xfrm>
            <a:off x="3103560" y="4492800"/>
            <a:ext cx="2389320" cy="987120"/>
            <a:chOff x="3103560" y="4492800"/>
            <a:chExt cx="2389320" cy="987120"/>
          </a:xfrm>
        </p:grpSpPr>
        <p:pic>
          <p:nvPicPr>
            <p:cNvPr id="230" name="Rectangle 14" descr=""/>
            <p:cNvPicPr/>
            <p:nvPr/>
          </p:nvPicPr>
          <p:blipFill>
            <a:blip r:embed="rId5"/>
            <a:stretch/>
          </p:blipFill>
          <p:spPr>
            <a:xfrm>
              <a:off x="3103560" y="4492800"/>
              <a:ext cx="23893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462480" y="450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vocabula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e vocabulair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Line 15"/>
          <p:cNvSpPr/>
          <p:nvPr/>
        </p:nvSpPr>
        <p:spPr>
          <a:xfrm flipH="1">
            <a:off x="6342120" y="2205000"/>
            <a:ext cx="288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Rectangle 16"/>
          <p:cNvGrpSpPr/>
          <p:nvPr/>
        </p:nvGrpSpPr>
        <p:grpSpPr>
          <a:xfrm>
            <a:off x="5553000" y="1542960"/>
            <a:ext cx="2390760" cy="987480"/>
            <a:chOff x="5553000" y="1542960"/>
            <a:chExt cx="2390760" cy="987480"/>
          </a:xfrm>
        </p:grpSpPr>
        <p:pic>
          <p:nvPicPr>
            <p:cNvPr id="234" name="Rectangle 16" descr=""/>
            <p:cNvPicPr/>
            <p:nvPr/>
          </p:nvPicPr>
          <p:blipFill>
            <a:blip r:embed="rId6"/>
            <a:stretch/>
          </p:blipFill>
          <p:spPr>
            <a:xfrm>
              <a:off x="5553000" y="1542960"/>
              <a:ext cx="239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10120" y="1557360"/>
              <a:ext cx="201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harve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issonneur de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Line 17"/>
          <p:cNvSpPr/>
          <p:nvPr/>
        </p:nvSpPr>
        <p:spPr>
          <a:xfrm flipH="1" flipV="1">
            <a:off x="5478120" y="486900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Rectangle 18"/>
          <p:cNvGrpSpPr/>
          <p:nvPr/>
        </p:nvGrpSpPr>
        <p:grpSpPr>
          <a:xfrm>
            <a:off x="5979960" y="4492800"/>
            <a:ext cx="2395800" cy="987120"/>
            <a:chOff x="5979960" y="4492800"/>
            <a:chExt cx="2395800" cy="987120"/>
          </a:xfrm>
        </p:grpSpPr>
        <p:pic>
          <p:nvPicPr>
            <p:cNvPr id="238" name="Rectangle 18" descr=""/>
            <p:cNvPicPr/>
            <p:nvPr/>
          </p:nvPicPr>
          <p:blipFill>
            <a:blip r:embed="rId7"/>
            <a:stretch/>
          </p:blipFill>
          <p:spPr>
            <a:xfrm>
              <a:off x="5979960" y="4492800"/>
              <a:ext cx="23958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42120" y="450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searc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e recherch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Line 19"/>
          <p:cNvSpPr/>
          <p:nvPr/>
        </p:nvSpPr>
        <p:spPr>
          <a:xfrm flipV="1">
            <a:off x="4757760" y="3715920"/>
            <a:ext cx="64764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Rectangle 21"/>
          <p:cNvGrpSpPr/>
          <p:nvPr/>
        </p:nvGrpSpPr>
        <p:grpSpPr>
          <a:xfrm>
            <a:off x="438120" y="4352760"/>
            <a:ext cx="2390760" cy="981360"/>
            <a:chOff x="438120" y="4352760"/>
            <a:chExt cx="2390760" cy="981360"/>
          </a:xfrm>
        </p:grpSpPr>
        <p:pic>
          <p:nvPicPr>
            <p:cNvPr id="242" name="Rectangle 21" descr=""/>
            <p:cNvPicPr/>
            <p:nvPr/>
          </p:nvPicPr>
          <p:blipFill>
            <a:blip r:embed="rId8"/>
            <a:stretch/>
          </p:blipFill>
          <p:spPr>
            <a:xfrm>
              <a:off x="438120" y="4352760"/>
              <a:ext cx="23907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97040" y="436572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md-ed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diteur de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Line 22"/>
          <p:cNvSpPr/>
          <p:nvPr/>
        </p:nvSpPr>
        <p:spPr>
          <a:xfrm>
            <a:off x="2814480" y="4797360"/>
            <a:ext cx="64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Cas d’utilis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gestion des ressources produit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estion de l’archive institutionnelle de l’établis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aggrégation de ressources extérieur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UNR, une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utilisation complè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Établissement, UNR, UNT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FED527-D7B0-4791-BE94-A12194DB197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D56779-D8EB-4579-9EAD-F7BF57908B9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55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A62C53-EF1E-44F9-B21A-3AF83B0F29CC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f67"/>
              </a:gs>
              <a:gs pos="50000">
                <a:srgbClr val="76a333"/>
              </a:gs>
              <a:gs pos="100000">
                <a:srgbClr val="a5cf6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 fonctionnalités actue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De la version 1.0 à la version 1.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ion 1.0 : fin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férencement et mutualisation 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OAI-PMH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 des ressources pédagogiques 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format LO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0760" indent="-32076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ion 1.6 : début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implification de l’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rge diffusion et échange des con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Gestion centralisée et transparente des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égration de la GED ESUP-ECM (Nuxe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aux types de ressources et formats de métadon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OMFR / SupLOMFR (profils d’application français du LO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DMFR (moissonnage de l’offre de form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EF (thèses) + lien avec STAR de l’A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lles fonctionnalit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oteur de recherche : flux RSS, profil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4C337C-0A6E-48AD-84A4-4948B67FC94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0D1236-1895-41F3-9148-43B5FD67C55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67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9422AC-4B6B-4D94-BD6C-58146F31139F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31d"/>
              </a:gs>
              <a:gs pos="50000">
                <a:srgbClr val="c56f07"/>
              </a:gs>
              <a:gs pos="100000">
                <a:srgbClr val="f793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ers une génér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 déploi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Une généralisation du déploi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jectifs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Stabilisation de la version 1.6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Soutien et aide des établissements au déploi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 plan national de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ncé en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utien de la SDTICE via les 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, installation et personnalisation de ORI-O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ai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’établissements dans 8 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C82A53-A9BA-48BA-B936-C6BA292EAF1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Une communauté croissan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e communauté croiss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ai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’établissements e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rtail des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Tahoma"/>
              </a:rPr>
              <a:t>http://www.universites-numeriques.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l’étra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de mutualisation avec le Québ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EOMED (Maroc, Tunisie, Jordanie, Liban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lg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48526C-8C22-43A0-A33B-3A9E27CF6B9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727380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692360" y="2214720"/>
            <a:ext cx="73803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372960" y="357120"/>
            <a:ext cx="75567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4" name="Picture 5" descr=""/>
          <p:cNvPicPr/>
          <p:nvPr/>
        </p:nvPicPr>
        <p:blipFill>
          <a:blip r:embed="rId4"/>
          <a:stretch/>
        </p:blipFill>
        <p:spPr>
          <a:xfrm>
            <a:off x="1500120" y="1928880"/>
            <a:ext cx="72741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755640" y="692280"/>
            <a:ext cx="759456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7" descr=""/>
          <p:cNvPicPr/>
          <p:nvPr/>
        </p:nvPicPr>
        <p:blipFill>
          <a:blip r:embed="rId6"/>
          <a:stretch/>
        </p:blipFill>
        <p:spPr>
          <a:xfrm>
            <a:off x="1071720" y="1571760"/>
            <a:ext cx="738000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7" name="Picture 3" descr=""/>
          <p:cNvPicPr/>
          <p:nvPr/>
        </p:nvPicPr>
        <p:blipFill>
          <a:blip r:embed="rId7"/>
          <a:stretch/>
        </p:blipFill>
        <p:spPr>
          <a:xfrm>
            <a:off x="1187280" y="1052640"/>
            <a:ext cx="759492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B56FF9-3A83-49C6-BFFE-6624C93DE92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93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E941BF-B6A1-4D42-B6AF-1361842A6E57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66ab"/>
              </a:gs>
              <a:gs pos="50000">
                <a:srgbClr val="2d487b"/>
              </a:gs>
              <a:gs pos="100000">
                <a:srgbClr val="3f66a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évolutions à v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ommai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72FC2A-C9A4-4030-83BD-5329EA3930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8360" y="4005360"/>
            <a:ext cx="783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31d"/>
              </a:gs>
              <a:gs pos="50000">
                <a:srgbClr val="c56f07"/>
              </a:gs>
              <a:gs pos="100000">
                <a:srgbClr val="f793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rs une généralisation du déploi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8360" y="321300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f67"/>
              </a:gs>
              <a:gs pos="50000">
                <a:srgbClr val="76a333"/>
              </a:gs>
              <a:gs pos="100000">
                <a:srgbClr val="a5cf6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fonctionnalités actu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468360" y="246384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254b"/>
              </a:gs>
              <a:gs pos="50000">
                <a:srgbClr val="8e1e3b"/>
              </a:gs>
              <a:gs pos="100000">
                <a:srgbClr val="b225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architecture pour tous les beso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468360" y="1641600"/>
            <a:ext cx="783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d8e9"/>
              </a:gs>
              <a:gs pos="50000">
                <a:srgbClr val="68afd2"/>
              </a:gs>
              <a:gs pos="100000">
                <a:srgbClr val="b6d8e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exte et objectifs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468360" y="476712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66ab"/>
              </a:gs>
              <a:gs pos="50000">
                <a:srgbClr val="2d487b"/>
              </a:gs>
              <a:gs pos="100000">
                <a:srgbClr val="3f66a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évolutions à ve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Travaux en cours et à veni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bilisation des fonctionnalit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aux types de ressources et formats de métadon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ations scientifiques en lien avec H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Workflow complet des thèses en lien avec 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ersion 2 de ORI-O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égration des retours fonct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uveaux services et meilleure ergonom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 moteur de recherche (facettes, aide à la saisie, multilingue, etc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orte intégration avec la gestion de doc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Statistiq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ntégration/export avec/vers d’autres out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B6FBC7-C837-4556-BB32-7B07D8AC2C2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108720"/>
            <a:ext cx="756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epè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64760"/>
            <a:ext cx="85341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Site du proje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6ea0"/>
                </a:solidFill>
                <a:latin typeface="Tahoma"/>
              </a:rPr>
              <a:t>http://www.ori-oai.o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Contac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E6C5CE-BF26-46D0-A611-1615DB1D8C8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50920" y="2852640"/>
            <a:ext cx="8534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Liste de discussion </a:t>
            </a: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ori-oai-utilisateur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6632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6ea0"/>
                </a:solidFill>
                <a:latin typeface="Tahoma"/>
              </a:rPr>
              <a:t>http://listes.univ-rennes1.fr/wws/info/ori-oai-utilisa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Liste d’information </a:t>
            </a: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ori-oai-inf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663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6ea0"/>
                </a:solidFill>
                <a:latin typeface="Tahoma"/>
              </a:rPr>
              <a:t>http://listes.univ-rennes1.fr/wws/info/ori-oai-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3280" y="108720"/>
            <a:ext cx="756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ce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295280"/>
            <a:ext cx="85341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Bookman Old Style"/>
              </a:rPr>
              <a:t>Ce travail est mis à disposition sous une licence Creative Common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Vous êtes lib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 reproduire, distribuer et communiquer cette création au public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 modifier cette cré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Cette création est mise à disposition selon le Contrat Paternité-NonCommercial-ShareAlike 2.5 disponible en ligne http://creativecommons.org/licenses/by-nc-sa/2.5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Remarque : Les transparents présentés ici ont été réalisés par 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>
              <a:lnSpc>
                <a:spcPct val="80000"/>
              </a:lnSpc>
              <a:spcBef>
                <a:spcPts val="349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Yohan Colmant (Université de Valencienn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733337-A8CB-494D-9920-B3A48B586C4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995640" y="2421000"/>
            <a:ext cx="1149120" cy="720360"/>
            <a:chOff x="3995640" y="2421000"/>
            <a:chExt cx="1149120" cy="720360"/>
          </a:xfrm>
        </p:grpSpPr>
        <p:pic>
          <p:nvPicPr>
            <p:cNvPr id="312" name="Picture 4" descr=""/>
            <p:cNvPicPr/>
            <p:nvPr/>
          </p:nvPicPr>
          <p:blipFill>
            <a:blip r:embed="rId1"/>
            <a:stretch/>
          </p:blipFill>
          <p:spPr>
            <a:xfrm>
              <a:off x="4056480" y="2421000"/>
              <a:ext cx="102888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"/>
            <p:cNvPicPr/>
            <p:nvPr/>
          </p:nvPicPr>
          <p:blipFill>
            <a:blip r:embed="rId2"/>
            <a:stretch/>
          </p:blipFill>
          <p:spPr>
            <a:xfrm>
              <a:off x="3995640" y="2941920"/>
              <a:ext cx="18108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"/>
            <p:cNvPicPr/>
            <p:nvPr/>
          </p:nvPicPr>
          <p:blipFill>
            <a:blip r:embed="rId3"/>
            <a:stretch/>
          </p:blipFill>
          <p:spPr>
            <a:xfrm>
              <a:off x="4478760" y="2941920"/>
              <a:ext cx="18144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"/>
            <p:cNvPicPr/>
            <p:nvPr/>
          </p:nvPicPr>
          <p:blipFill>
            <a:blip r:embed="rId4"/>
            <a:stretch/>
          </p:blipFill>
          <p:spPr>
            <a:xfrm>
              <a:off x="4963320" y="2941920"/>
              <a:ext cx="181440" cy="199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5A8C68-CF76-4115-BCBC-1FEB534CA9A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126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0DACE6-F909-4887-85E2-D3ED6C3997D5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1550880" y="2852640"/>
            <a:ext cx="618984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d8e9"/>
              </a:gs>
              <a:gs pos="50000">
                <a:srgbClr val="68afd2"/>
              </a:gs>
              <a:gs pos="100000">
                <a:srgbClr val="b6d8e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exte et objec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 pro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e la date 6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Espace réservé du pied de page 8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Espace réservé du numéro de diapositive 7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07E42F-1A79-48AB-9527-726A31448AF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Rappel du contex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184040"/>
            <a:ext cx="85327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-OAI répond à des besoins complémentaires à différents nivea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s établissements universita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s Universités Numériques Thématiques (U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-OAI : projet Open Source inter-UNT soutenu par la SD/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446B89-9989-48CB-B53F-EC1DB83844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e besoin des établiss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es établissements universitair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oissance de la création numérique institutionn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cessibilité aux res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érentiel unique de documents, indexation professionn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« Système Global d’Information 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Mise en place de la démarche « </a:t>
            </a: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patrimoine numérique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 » des établisseme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AB81B3-7BA3-4DD1-926B-24C531C5592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A8C1AD-5527-4E71-BD82-08B0B22B4BAB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e besoin des U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es UNT (Universités Numériques Thématiques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lexion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volution du portail et choix d’une organisation en « réseau de portails OAI-PMH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vergence sur les besoins de référencement et d’indexation avec l’UNT UV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écessité de mutualiser les outils et les moyens d’accompagnement pour favoriser la démarche avec l’ensemble des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E6EA7D-99BB-4A0E-BF32-8EFDBBFC945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Espace réservé du numéro de diapositive 5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C4F371-18FB-4254-9E01-CBA081F62312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Les objectifs du proje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Gérer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publier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les ressources numériques de l’établissemen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urs, thèses, publications, doc. administratif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Valoris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la production de l’établissement par une indexation de qualité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Partag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les ressources numériques avec d’autres établisseme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Accéd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aux ressources numériques à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en fonction des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droits d’accè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3B4C89-09EF-4A20-A9A4-6BC11F7D497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e la date 6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Espace réservé du pied de page 8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Espace réservé du numéro de diapositive 7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27B3BA-0144-409E-905D-E0758B7B7F8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Les objectifs du proje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84040"/>
            <a:ext cx="85327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roupe de travail ORI-OAI vise 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développemen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communautés OAI-PMH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l propose une implémentation de référence du protocole OAI-PMH ainsi que les outils nécessaires à la mise en place de ces communautés et à la bonne intégration aux communautés exis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03FE98-2077-468F-93B7-9AE3568BCB4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AB41A5-8ACC-46D7-8E57-1838952A157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162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B83D17-452A-4C34-9268-CFFBE9A02774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254b"/>
              </a:gs>
              <a:gs pos="50000">
                <a:srgbClr val="8e1e3b"/>
              </a:gs>
              <a:gs pos="100000">
                <a:srgbClr val="b225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e architecture p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us les be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ohan</dc:creator>
  <dc:description/>
  <dc:language>en-US</dc:language>
  <cp:lastModifiedBy>Hewlett-Packard Company</cp:lastModifiedBy>
  <dcterms:modified xsi:type="dcterms:W3CDTF">2016-01-13T12:53:36Z</dcterms:modified>
  <cp:revision>451</cp:revision>
  <dc:subject/>
  <dc:title>ORI-OAI: Referencing and Indexing Tool for a Network of OAI Portals</dc:title>
</cp:coreProperties>
</file>