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10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9907588" cy="6883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907200" cy="688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AutoShape 1"/>
          <p:cNvSpPr/>
          <p:nvPr/>
        </p:nvSpPr>
        <p:spPr>
          <a:xfrm>
            <a:off x="0" y="0"/>
            <a:ext cx="9906120" cy="6883560"/>
          </a:xfrm>
          <a:prstGeom prst="roundRect">
            <a:avLst>
              <a:gd name="adj" fmla="val 1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9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5611680" y="-360"/>
            <a:ext cx="42912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6539040"/>
            <a:ext cx="429084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CB284-E0CF-4D73-A9A6-B72B2D4605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5BF50-6686-4337-8F64-CD389527CA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3E654-B1FD-46B2-A56C-DE740F9F2D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7E942-6306-4302-9AB5-E36D00B3EC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F9117-4E84-44A7-99B6-DD567A6A1B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90AA4-34C0-4420-BFDA-0B6F3D737C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2C236-A79C-477C-8AE6-2A94E475B5E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3D8E-A757-46D2-858E-EB3727FE68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CE3E4-7C63-4467-9344-6E21403EDE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908DD-E869-4C86-8C1D-02274943FA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8226E-3F15-4832-9280-0A96C3FA00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17066-7574-4C2F-B588-C6598F91EE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BB094-6BF8-44E8-B084-F0DF4DE5CE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2CFA6-1176-4F84-952F-E1DF7E9E8C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3FA1F-1CBF-4973-B14A-08576941F2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230640" y="515880"/>
            <a:ext cx="3440160" cy="2579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322280" y="3269880"/>
            <a:ext cx="725832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Espace réservé du numéro de diapositive 3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A0CC7-204B-4F91-8ED2-CE0E68FF37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30472-5687-44D8-9299-881066E04B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5611680" y="6539040"/>
            <a:ext cx="4291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205A6-B4E6-4D7B-8188-C82A831B75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"/>
          <p:cNvSpPr/>
          <p:nvPr/>
        </p:nvSpPr>
        <p:spPr>
          <a:xfrm>
            <a:off x="3230640" y="515880"/>
            <a:ext cx="3440160" cy="25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1322280" y="3270240"/>
            <a:ext cx="7259760" cy="30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1192-D952-4AB5-B146-C240A5580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0D3A-C214-4155-9FF9-B54F145F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0D6-8987-42C6-9882-8F7D9CCB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96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464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96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464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B79-B846-4541-A37D-74882B62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476-8C59-4687-B13F-32E5B509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8996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4640" y="112536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0492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18996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74640" y="3840120"/>
            <a:ext cx="27471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D55-2791-432B-B07F-BD80B09E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FA29-C8BE-4F7F-BD77-68CAC704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937-FD4C-4B87-ACAE-08A99E21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03280" y="-360"/>
            <a:ext cx="7561440" cy="35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4C8-5703-48D1-841F-A4A92DD7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024-B665-4AC8-90EF-22DF5DF9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7120" y="384012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63AE-0EE4-4D87-A7BB-C94A3E54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120" y="1125360"/>
            <a:ext cx="416376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40120"/>
            <a:ext cx="8532720" cy="24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C1C-823E-4FD4-B24E-62B88937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75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675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675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6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20"/>
          <p:cNvGrpSpPr/>
          <p:nvPr/>
        </p:nvGrpSpPr>
        <p:grpSpPr>
          <a:xfrm>
            <a:off x="0" y="790560"/>
            <a:ext cx="9144000" cy="208080"/>
            <a:chOff x="0" y="790560"/>
            <a:chExt cx="9144000" cy="208080"/>
          </a:xfrm>
        </p:grpSpPr>
        <p:sp>
          <p:nvSpPr>
            <p:cNvPr id="3" name="Rectangle 6"/>
            <p:cNvSpPr/>
            <p:nvPr/>
          </p:nvSpPr>
          <p:spPr>
            <a:xfrm>
              <a:off x="0" y="790560"/>
              <a:ext cx="9144000" cy="18756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17"/>
            <p:cNvSpPr/>
            <p:nvPr/>
          </p:nvSpPr>
          <p:spPr>
            <a:xfrm>
              <a:off x="0" y="97020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21"/>
          <p:cNvGrpSpPr/>
          <p:nvPr/>
        </p:nvGrpSpPr>
        <p:grpSpPr>
          <a:xfrm>
            <a:off x="0" y="6640560"/>
            <a:ext cx="9144000" cy="217440"/>
            <a:chOff x="0" y="6640560"/>
            <a:chExt cx="9144000" cy="217440"/>
          </a:xfrm>
        </p:grpSpPr>
        <p:sp>
          <p:nvSpPr>
            <p:cNvPr id="6" name="Rectangle 3"/>
            <p:cNvSpPr/>
            <p:nvPr/>
          </p:nvSpPr>
          <p:spPr>
            <a:xfrm>
              <a:off x="0" y="6669000"/>
              <a:ext cx="9144000" cy="18900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19"/>
            <p:cNvSpPr/>
            <p:nvPr/>
          </p:nvSpPr>
          <p:spPr>
            <a:xfrm>
              <a:off x="0" y="664056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04920" y="6453000"/>
            <a:ext cx="19634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268000" y="6453000"/>
            <a:ext cx="5502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2040" y="6453000"/>
            <a:ext cx="106524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552581-89A3-4E59-B268-024BE8C7BB0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26" descr="bandeau-sans-texte"/>
          <p:cNvPicPr/>
          <p:nvPr/>
        </p:nvPicPr>
        <p:blipFill>
          <a:blip r:embed="rId2"/>
          <a:srcRect l="1056" t="0" r="0" b="0"/>
          <a:stretch/>
        </p:blipFill>
        <p:spPr>
          <a:xfrm>
            <a:off x="0" y="0"/>
            <a:ext cx="918828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2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13" descr="Image2.bmp"/>
          <p:cNvPicPr/>
          <p:nvPr/>
        </p:nvPicPr>
        <p:blipFill>
          <a:blip r:embed="rId2"/>
          <a:stretch/>
        </p:blipFill>
        <p:spPr>
          <a:xfrm>
            <a:off x="7613640" y="5394240"/>
            <a:ext cx="1536840" cy="14637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5"/>
          <p:cNvGrpSpPr/>
          <p:nvPr/>
        </p:nvGrpSpPr>
        <p:grpSpPr>
          <a:xfrm>
            <a:off x="0" y="0"/>
            <a:ext cx="9144000" cy="208080"/>
            <a:chOff x="0" y="0"/>
            <a:chExt cx="9144000" cy="208080"/>
          </a:xfrm>
        </p:grpSpPr>
        <p:sp>
          <p:nvSpPr>
            <p:cNvPr id="50" name="Rectangle 6"/>
            <p:cNvSpPr/>
            <p:nvPr/>
          </p:nvSpPr>
          <p:spPr>
            <a:xfrm>
              <a:off x="0" y="0"/>
              <a:ext cx="9144000" cy="18756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0" y="17964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" name="Picture 32" descr="1102046_84848619"/>
          <p:cNvPicPr/>
          <p:nvPr/>
        </p:nvPicPr>
        <p:blipFill>
          <a:blip r:embed="rId3"/>
          <a:srcRect l="0" t="0" r="0" b="5411"/>
          <a:stretch/>
        </p:blipFill>
        <p:spPr>
          <a:xfrm>
            <a:off x="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3" descr="1121894_55941276"/>
          <p:cNvPicPr/>
          <p:nvPr/>
        </p:nvPicPr>
        <p:blipFill>
          <a:blip r:embed="rId4"/>
          <a:srcRect l="0" t="0" r="0" b="5319"/>
          <a:stretch/>
        </p:blipFill>
        <p:spPr>
          <a:xfrm>
            <a:off x="1521000" y="5416560"/>
            <a:ext cx="1522080" cy="144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4" descr="1160562_32750485"/>
          <p:cNvPicPr/>
          <p:nvPr/>
        </p:nvPicPr>
        <p:blipFill>
          <a:blip r:embed="rId5"/>
          <a:srcRect l="0" t="0" r="0" b="5411"/>
          <a:stretch/>
        </p:blipFill>
        <p:spPr>
          <a:xfrm>
            <a:off x="304308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5" descr="1154210_96382957"/>
          <p:cNvPicPr/>
          <p:nvPr/>
        </p:nvPicPr>
        <p:blipFill>
          <a:blip r:embed="rId6"/>
          <a:srcRect l="0" t="0" r="0" b="5419"/>
          <a:stretch/>
        </p:blipFill>
        <p:spPr>
          <a:xfrm>
            <a:off x="6095880" y="5415120"/>
            <a:ext cx="1525680" cy="1442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6" descr="001"/>
          <p:cNvPicPr/>
          <p:nvPr/>
        </p:nvPicPr>
        <p:blipFill>
          <a:blip r:embed="rId7"/>
          <a:srcRect l="0" t="0" r="0" b="5414"/>
          <a:stretch/>
        </p:blipFill>
        <p:spPr>
          <a:xfrm>
            <a:off x="4565520" y="5415120"/>
            <a:ext cx="1525680" cy="1442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0" y="5199120"/>
            <a:ext cx="9144000" cy="217440"/>
            <a:chOff x="0" y="5199120"/>
            <a:chExt cx="9144000" cy="217440"/>
          </a:xfrm>
        </p:grpSpPr>
        <p:sp>
          <p:nvSpPr>
            <p:cNvPr id="58" name="Rectangle 9"/>
            <p:cNvSpPr/>
            <p:nvPr/>
          </p:nvSpPr>
          <p:spPr>
            <a:xfrm>
              <a:off x="0" y="5227560"/>
              <a:ext cx="9144000" cy="189000"/>
            </a:xfrm>
            <a:prstGeom prst="rect">
              <a:avLst/>
            </a:prstGeom>
            <a:solidFill>
              <a:srgbClr val="b225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0" y="5199120"/>
              <a:ext cx="9144000" cy="28440"/>
            </a:xfrm>
            <a:prstGeom prst="rect">
              <a:avLst/>
            </a:prstGeom>
            <a:solidFill>
              <a:srgbClr val="f7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Text Box 38"/>
          <p:cNvSpPr/>
          <p:nvPr/>
        </p:nvSpPr>
        <p:spPr>
          <a:xfrm>
            <a:off x="1258920" y="836640"/>
            <a:ext cx="33130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39"/>
          <p:cNvSpPr/>
          <p:nvPr/>
        </p:nvSpPr>
        <p:spPr>
          <a:xfrm>
            <a:off x="179280" y="1844640"/>
            <a:ext cx="561672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600" spc="-1" strike="noStrike">
                <a:solidFill>
                  <a:srgbClr val="2d487b"/>
                </a:solidFill>
                <a:latin typeface="Arial"/>
              </a:rPr>
              <a:t>Projet ORI-OAI</a:t>
            </a:r>
            <a:br>
              <a:rPr sz="2600"/>
            </a:b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O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util de 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R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éférencement et d’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I</a:t>
            </a: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ndexation</a:t>
            </a:r>
            <a:br>
              <a:rPr sz="2400"/>
            </a:br>
            <a:r>
              <a:rPr b="0" lang="fr-FR" sz="2400" spc="-1" strike="noStrike">
                <a:solidFill>
                  <a:srgbClr val="2d487b"/>
                </a:solidFill>
                <a:latin typeface="Arial"/>
              </a:rPr>
              <a:t>Réseau de portails </a:t>
            </a:r>
            <a:r>
              <a:rPr b="0" lang="fr-FR" sz="2400" spc="-1" strike="noStrike">
                <a:solidFill>
                  <a:srgbClr val="b2254b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0" descr="ori-sans-org"/>
          <p:cNvPicPr/>
          <p:nvPr/>
        </p:nvPicPr>
        <p:blipFill>
          <a:blip r:embed="rId8"/>
          <a:stretch/>
        </p:blipFill>
        <p:spPr>
          <a:xfrm>
            <a:off x="5867280" y="404640"/>
            <a:ext cx="2376720" cy="21812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75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675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1000"/>
              </a:lnSpc>
              <a:spcBef>
                <a:spcPts val="675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1000"/>
              </a:lnSpc>
              <a:spcBef>
                <a:spcPts val="6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lnSpc>
                <a:spcPct val="101000"/>
              </a:lnSpc>
              <a:spcBef>
                <a:spcPts val="675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660320" y="4321080"/>
            <a:ext cx="73040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1000"/>
              </a:lnSpc>
              <a:spcBef>
                <a:spcPts val="5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IUEN, 15 juin 20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708360" y="3428640"/>
            <a:ext cx="525312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 une généralisation du projet et évolution des fonctionnalité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811080" y="3645000"/>
            <a:ext cx="1938600" cy="19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7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Espace réservé de la date 30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Espace réservé du pied de page 31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08B5ED-700F-4E7B-A655-A9FA26D431D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AutoShape 110"/>
          <p:cNvGrpSpPr/>
          <p:nvPr/>
        </p:nvGrpSpPr>
        <p:grpSpPr>
          <a:xfrm>
            <a:off x="2871720" y="2328840"/>
            <a:ext cx="3327480" cy="2395440"/>
            <a:chOff x="2871720" y="2328840"/>
            <a:chExt cx="3327480" cy="2395440"/>
          </a:xfrm>
        </p:grpSpPr>
        <p:pic>
          <p:nvPicPr>
            <p:cNvPr id="170" name="AutoShape 110" descr=""/>
            <p:cNvPicPr/>
            <p:nvPr/>
          </p:nvPicPr>
          <p:blipFill>
            <a:blip r:embed="rId1"/>
            <a:stretch/>
          </p:blipFill>
          <p:spPr>
            <a:xfrm>
              <a:off x="2871720" y="2328840"/>
              <a:ext cx="332748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30400" y="2359080"/>
              <a:ext cx="321156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2" name="Picture 99" descr="ddimage2"/>
          <p:cNvPicPr/>
          <p:nvPr/>
        </p:nvPicPr>
        <p:blipFill>
          <a:blip r:embed="rId2"/>
          <a:stretch/>
        </p:blipFill>
        <p:spPr>
          <a:xfrm>
            <a:off x="6504120" y="4900680"/>
            <a:ext cx="2341440" cy="3036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0" descr="ddimage3"/>
          <p:cNvPicPr/>
          <p:nvPr/>
        </p:nvPicPr>
        <p:blipFill>
          <a:blip r:embed="rId3"/>
          <a:stretch/>
        </p:blipFill>
        <p:spPr>
          <a:xfrm>
            <a:off x="6718320" y="2682720"/>
            <a:ext cx="2376360" cy="3048120"/>
          </a:xfrm>
          <a:prstGeom prst="rect">
            <a:avLst/>
          </a:prstGeom>
          <a:ln w="0">
            <a:noFill/>
          </a:ln>
        </p:spPr>
      </p:pic>
      <p:pic>
        <p:nvPicPr>
          <p:cNvPr id="174" name="Groupe 29" descr=""/>
          <p:cNvPicPr/>
          <p:nvPr/>
        </p:nvPicPr>
        <p:blipFill>
          <a:blip r:embed="rId4"/>
          <a:stretch/>
        </p:blipFill>
        <p:spPr>
          <a:xfrm>
            <a:off x="6357960" y="542880"/>
            <a:ext cx="2378160" cy="303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6" descr="ddimage7"/>
          <p:cNvPicPr/>
          <p:nvPr/>
        </p:nvPicPr>
        <p:blipFill>
          <a:blip r:embed="rId5"/>
          <a:stretch/>
        </p:blipFill>
        <p:spPr>
          <a:xfrm>
            <a:off x="3359160" y="682560"/>
            <a:ext cx="2340000" cy="304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7" descr="ddimage8"/>
          <p:cNvPicPr/>
          <p:nvPr/>
        </p:nvPicPr>
        <p:blipFill>
          <a:blip r:embed="rId6"/>
          <a:stretch/>
        </p:blipFill>
        <p:spPr>
          <a:xfrm>
            <a:off x="371520" y="4900680"/>
            <a:ext cx="2341440" cy="3036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8" descr="ddimage9"/>
          <p:cNvPicPr/>
          <p:nvPr/>
        </p:nvPicPr>
        <p:blipFill>
          <a:blip r:embed="rId7"/>
          <a:stretch/>
        </p:blipFill>
        <p:spPr>
          <a:xfrm>
            <a:off x="3371760" y="4900680"/>
            <a:ext cx="2340000" cy="3036960"/>
          </a:xfrm>
          <a:prstGeom prst="rect">
            <a:avLst/>
          </a:prstGeom>
          <a:ln w="0">
            <a:noFill/>
          </a:ln>
        </p:spPr>
      </p:pic>
      <p:grpSp>
        <p:nvGrpSpPr>
          <p:cNvPr id="178" name="AutoShape 55"/>
          <p:cNvGrpSpPr/>
          <p:nvPr/>
        </p:nvGrpSpPr>
        <p:grpSpPr>
          <a:xfrm>
            <a:off x="5138640" y="3200400"/>
            <a:ext cx="2237040" cy="895320"/>
            <a:chOff x="5138640" y="3200400"/>
            <a:chExt cx="2237040" cy="895320"/>
          </a:xfrm>
        </p:grpSpPr>
        <p:pic>
          <p:nvPicPr>
            <p:cNvPr id="179" name="AutoShape 55" descr=""/>
            <p:cNvPicPr/>
            <p:nvPr/>
          </p:nvPicPr>
          <p:blipFill>
            <a:blip r:embed="rId8"/>
            <a:stretch/>
          </p:blipFill>
          <p:spPr>
            <a:xfrm>
              <a:off x="5138640" y="3200400"/>
              <a:ext cx="2237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500800" y="321480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reposi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pôt d'exposition des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AutoShape 57"/>
          <p:cNvGrpSpPr/>
          <p:nvPr/>
        </p:nvGrpSpPr>
        <p:grpSpPr>
          <a:xfrm>
            <a:off x="3213000" y="2127240"/>
            <a:ext cx="2376720" cy="901800"/>
            <a:chOff x="3213000" y="2127240"/>
            <a:chExt cx="2376720" cy="901800"/>
          </a:xfrm>
        </p:grpSpPr>
        <p:pic>
          <p:nvPicPr>
            <p:cNvPr id="182" name="AutoShape 57" descr=""/>
            <p:cNvPicPr/>
            <p:nvPr/>
          </p:nvPicPr>
          <p:blipFill>
            <a:blip r:embed="rId9"/>
            <a:stretch/>
          </p:blipFill>
          <p:spPr>
            <a:xfrm>
              <a:off x="3213000" y="2127240"/>
              <a:ext cx="2376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3571920" y="2143080"/>
              <a:ext cx="20001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UP-ECM + ORI-OAI-nuxe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age des document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gestion des authentification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" name="AutoShape 58"/>
          <p:cNvGrpSpPr/>
          <p:nvPr/>
        </p:nvGrpSpPr>
        <p:grpSpPr>
          <a:xfrm>
            <a:off x="3286080" y="4340160"/>
            <a:ext cx="2230560" cy="897120"/>
            <a:chOff x="3286080" y="4340160"/>
            <a:chExt cx="2230560" cy="897120"/>
          </a:xfrm>
        </p:grpSpPr>
        <p:pic>
          <p:nvPicPr>
            <p:cNvPr id="185" name="AutoShape 58" descr=""/>
            <p:cNvPicPr/>
            <p:nvPr/>
          </p:nvPicPr>
          <p:blipFill>
            <a:blip r:embed="rId10"/>
            <a:stretch/>
          </p:blipFill>
          <p:spPr>
            <a:xfrm>
              <a:off x="3286080" y="4340160"/>
              <a:ext cx="223056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643200" y="4357800"/>
              <a:ext cx="18576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vocabula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e vocabulair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AutoShape 59"/>
          <p:cNvGrpSpPr/>
          <p:nvPr/>
        </p:nvGrpSpPr>
        <p:grpSpPr>
          <a:xfrm>
            <a:off x="5638680" y="1841400"/>
            <a:ext cx="2237040" cy="895320"/>
            <a:chOff x="5638680" y="1841400"/>
            <a:chExt cx="2237040" cy="895320"/>
          </a:xfrm>
        </p:grpSpPr>
        <p:pic>
          <p:nvPicPr>
            <p:cNvPr id="188" name="AutoShape 59" descr=""/>
            <p:cNvPicPr/>
            <p:nvPr/>
          </p:nvPicPr>
          <p:blipFill>
            <a:blip r:embed="rId11"/>
            <a:stretch/>
          </p:blipFill>
          <p:spPr>
            <a:xfrm>
              <a:off x="5638680" y="1841400"/>
              <a:ext cx="2237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000840" y="185724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harvest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issonneur de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AutoShape 60"/>
          <p:cNvGrpSpPr/>
          <p:nvPr/>
        </p:nvGrpSpPr>
        <p:grpSpPr>
          <a:xfrm>
            <a:off x="927000" y="4498920"/>
            <a:ext cx="2230560" cy="895320"/>
            <a:chOff x="927000" y="4498920"/>
            <a:chExt cx="2230560" cy="895320"/>
          </a:xfrm>
        </p:grpSpPr>
        <p:pic>
          <p:nvPicPr>
            <p:cNvPr id="191" name="AutoShape 60" descr=""/>
            <p:cNvPicPr/>
            <p:nvPr/>
          </p:nvPicPr>
          <p:blipFill>
            <a:blip r:embed="rId12"/>
            <a:stretch/>
          </p:blipFill>
          <p:spPr>
            <a:xfrm>
              <a:off x="927000" y="4498920"/>
              <a:ext cx="2230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285920" y="451476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indexin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'indexat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AutoShape 61"/>
          <p:cNvGrpSpPr/>
          <p:nvPr/>
        </p:nvGrpSpPr>
        <p:grpSpPr>
          <a:xfrm>
            <a:off x="5572080" y="4486320"/>
            <a:ext cx="2230560" cy="896760"/>
            <a:chOff x="5572080" y="4486320"/>
            <a:chExt cx="2230560" cy="896760"/>
          </a:xfrm>
        </p:grpSpPr>
        <p:pic>
          <p:nvPicPr>
            <p:cNvPr id="194" name="AutoShape 61" descr=""/>
            <p:cNvPicPr/>
            <p:nvPr/>
          </p:nvPicPr>
          <p:blipFill>
            <a:blip r:embed="rId13"/>
            <a:stretch/>
          </p:blipFill>
          <p:spPr>
            <a:xfrm>
              <a:off x="5572080" y="4486320"/>
              <a:ext cx="223056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929200" y="4500720"/>
              <a:ext cx="1857600" cy="55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search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e recherch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6" name="Picture 115" descr="ddimage6"/>
          <p:cNvPicPr/>
          <p:nvPr/>
        </p:nvPicPr>
        <p:blipFill>
          <a:blip r:embed="rId14"/>
          <a:stretch/>
        </p:blipFill>
        <p:spPr>
          <a:xfrm>
            <a:off x="73080" y="2682720"/>
            <a:ext cx="23414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7" name="AutoShape 116"/>
          <p:cNvGrpSpPr/>
          <p:nvPr/>
        </p:nvGrpSpPr>
        <p:grpSpPr>
          <a:xfrm>
            <a:off x="1285920" y="3200400"/>
            <a:ext cx="2232000" cy="895320"/>
            <a:chOff x="1285920" y="3200400"/>
            <a:chExt cx="2232000" cy="895320"/>
          </a:xfrm>
        </p:grpSpPr>
        <p:pic>
          <p:nvPicPr>
            <p:cNvPr id="198" name="AutoShape 116" descr=""/>
            <p:cNvPicPr/>
            <p:nvPr/>
          </p:nvPicPr>
          <p:blipFill>
            <a:blip r:embed="rId15"/>
            <a:stretch/>
          </p:blipFill>
          <p:spPr>
            <a:xfrm>
              <a:off x="1285920" y="3200400"/>
              <a:ext cx="22320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643040" y="321480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md-edit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diteur de métadonné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117" descr="ddimage5"/>
          <p:cNvPicPr/>
          <p:nvPr/>
        </p:nvPicPr>
        <p:blipFill>
          <a:blip r:embed="rId16"/>
          <a:stretch/>
        </p:blipFill>
        <p:spPr>
          <a:xfrm>
            <a:off x="334800" y="542880"/>
            <a:ext cx="2378160" cy="3035520"/>
          </a:xfrm>
          <a:prstGeom prst="rect">
            <a:avLst/>
          </a:prstGeom>
          <a:ln w="0">
            <a:noFill/>
          </a:ln>
        </p:spPr>
      </p:pic>
      <p:grpSp>
        <p:nvGrpSpPr>
          <p:cNvPr id="201" name="AutoShape 118"/>
          <p:cNvGrpSpPr/>
          <p:nvPr/>
        </p:nvGrpSpPr>
        <p:grpSpPr>
          <a:xfrm>
            <a:off x="927000" y="1841400"/>
            <a:ext cx="2230560" cy="895320"/>
            <a:chOff x="927000" y="1841400"/>
            <a:chExt cx="2230560" cy="895320"/>
          </a:xfrm>
        </p:grpSpPr>
        <p:pic>
          <p:nvPicPr>
            <p:cNvPr id="202" name="AutoShape 118" descr=""/>
            <p:cNvPicPr/>
            <p:nvPr/>
          </p:nvPicPr>
          <p:blipFill>
            <a:blip r:embed="rId17"/>
            <a:stretch/>
          </p:blipFill>
          <p:spPr>
            <a:xfrm>
              <a:off x="927000" y="1841400"/>
              <a:ext cx="22305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1285920" y="1857240"/>
              <a:ext cx="18572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worf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spcAft>
                  <a:spcPts val="286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u workflow de saisie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4" name="Picture 119" descr="ori-sans-org"/>
          <p:cNvPicPr/>
          <p:nvPr/>
        </p:nvPicPr>
        <p:blipFill>
          <a:blip r:embed="rId18"/>
          <a:stretch/>
        </p:blipFill>
        <p:spPr>
          <a:xfrm>
            <a:off x="3786120" y="2859120"/>
            <a:ext cx="14256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Architecture complè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E4E3B17-F6B3-41AB-9F36-2B082FB04D7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622560" y="5589360"/>
            <a:ext cx="2521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8 modu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eropér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2"/>
          <p:cNvSpPr/>
          <p:nvPr/>
        </p:nvSpPr>
        <p:spPr>
          <a:xfrm flipH="1" flipV="1">
            <a:off x="2974680" y="2071440"/>
            <a:ext cx="1927080" cy="1212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3"/>
          <p:cNvSpPr/>
          <p:nvPr/>
        </p:nvSpPr>
        <p:spPr>
          <a:xfrm flipV="1">
            <a:off x="6702480" y="371628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Line 5"/>
          <p:cNvSpPr/>
          <p:nvPr/>
        </p:nvSpPr>
        <p:spPr>
          <a:xfrm flipV="1">
            <a:off x="1878120" y="2205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2814480" y="3429000"/>
            <a:ext cx="208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1878120" y="3716280"/>
            <a:ext cx="144360" cy="649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4038480" y="2205000"/>
            <a:ext cx="0" cy="230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4541760" y="2205000"/>
            <a:ext cx="79236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" name="Rectangle 10"/>
          <p:cNvGrpSpPr/>
          <p:nvPr/>
        </p:nvGrpSpPr>
        <p:grpSpPr>
          <a:xfrm>
            <a:off x="328680" y="1542960"/>
            <a:ext cx="2663640" cy="987480"/>
            <a:chOff x="328680" y="1542960"/>
            <a:chExt cx="2663640" cy="987480"/>
          </a:xfrm>
        </p:grpSpPr>
        <p:pic>
          <p:nvPicPr>
            <p:cNvPr id="218" name="Rectangle 10" descr=""/>
            <p:cNvPicPr/>
            <p:nvPr/>
          </p:nvPicPr>
          <p:blipFill>
            <a:blip r:embed="rId1"/>
            <a:stretch/>
          </p:blipFill>
          <p:spPr>
            <a:xfrm>
              <a:off x="328680" y="1542960"/>
              <a:ext cx="2663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89040" y="1557360"/>
              <a:ext cx="228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UP-ECM+ORI-OAI-nuxe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ockage des documents e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 des authentif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Rectangle 11"/>
          <p:cNvGrpSpPr/>
          <p:nvPr/>
        </p:nvGrpSpPr>
        <p:grpSpPr>
          <a:xfrm>
            <a:off x="3029040" y="1542960"/>
            <a:ext cx="2390760" cy="987480"/>
            <a:chOff x="3029040" y="1542960"/>
            <a:chExt cx="2390760" cy="987480"/>
          </a:xfrm>
        </p:grpSpPr>
        <p:pic>
          <p:nvPicPr>
            <p:cNvPr id="221" name="Rectangle 11" descr=""/>
            <p:cNvPicPr/>
            <p:nvPr/>
          </p:nvPicPr>
          <p:blipFill>
            <a:blip r:embed="rId2"/>
            <a:stretch/>
          </p:blipFill>
          <p:spPr>
            <a:xfrm>
              <a:off x="3029040" y="1542960"/>
              <a:ext cx="239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389400" y="155736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reposito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repôt d’exposi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3" name="Rectangle 12"/>
          <p:cNvGrpSpPr/>
          <p:nvPr/>
        </p:nvGrpSpPr>
        <p:grpSpPr>
          <a:xfrm>
            <a:off x="4541760" y="3054240"/>
            <a:ext cx="2389320" cy="987480"/>
            <a:chOff x="4541760" y="3054240"/>
            <a:chExt cx="2389320" cy="987480"/>
          </a:xfrm>
        </p:grpSpPr>
        <p:pic>
          <p:nvPicPr>
            <p:cNvPr id="224" name="Rectangle 12" descr=""/>
            <p:cNvPicPr/>
            <p:nvPr/>
          </p:nvPicPr>
          <p:blipFill>
            <a:blip r:embed="rId3"/>
            <a:stretch/>
          </p:blipFill>
          <p:spPr>
            <a:xfrm>
              <a:off x="4541760" y="3054240"/>
              <a:ext cx="238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902120" y="3068640"/>
              <a:ext cx="201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index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’index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6" name="Rectangle 13"/>
          <p:cNvGrpSpPr/>
          <p:nvPr/>
        </p:nvGrpSpPr>
        <p:grpSpPr>
          <a:xfrm>
            <a:off x="512640" y="3054240"/>
            <a:ext cx="2389320" cy="987480"/>
            <a:chOff x="512640" y="3054240"/>
            <a:chExt cx="2389320" cy="987480"/>
          </a:xfrm>
        </p:grpSpPr>
        <p:pic>
          <p:nvPicPr>
            <p:cNvPr id="227" name="Rectangle 13" descr=""/>
            <p:cNvPicPr/>
            <p:nvPr/>
          </p:nvPicPr>
          <p:blipFill>
            <a:blip r:embed="rId4"/>
            <a:stretch/>
          </p:blipFill>
          <p:spPr>
            <a:xfrm>
              <a:off x="512640" y="3054240"/>
              <a:ext cx="23893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70120" y="306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workflow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u workflow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saisie des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Rectangle 14"/>
          <p:cNvGrpSpPr/>
          <p:nvPr/>
        </p:nvGrpSpPr>
        <p:grpSpPr>
          <a:xfrm>
            <a:off x="3103560" y="4492800"/>
            <a:ext cx="2389320" cy="987120"/>
            <a:chOff x="3103560" y="4492800"/>
            <a:chExt cx="2389320" cy="987120"/>
          </a:xfrm>
        </p:grpSpPr>
        <p:pic>
          <p:nvPicPr>
            <p:cNvPr id="230" name="Rectangle 14" descr=""/>
            <p:cNvPicPr/>
            <p:nvPr/>
          </p:nvPicPr>
          <p:blipFill>
            <a:blip r:embed="rId5"/>
            <a:stretch/>
          </p:blipFill>
          <p:spPr>
            <a:xfrm>
              <a:off x="3103560" y="4492800"/>
              <a:ext cx="238932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462480" y="450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vocabular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stionnaire de vocabulair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Line 15"/>
          <p:cNvSpPr/>
          <p:nvPr/>
        </p:nvSpPr>
        <p:spPr>
          <a:xfrm flipH="1">
            <a:off x="6342120" y="2205000"/>
            <a:ext cx="28872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Rectangle 16"/>
          <p:cNvGrpSpPr/>
          <p:nvPr/>
        </p:nvGrpSpPr>
        <p:grpSpPr>
          <a:xfrm>
            <a:off x="5553000" y="1542960"/>
            <a:ext cx="2390760" cy="987480"/>
            <a:chOff x="5553000" y="1542960"/>
            <a:chExt cx="2390760" cy="987480"/>
          </a:xfrm>
        </p:grpSpPr>
        <p:pic>
          <p:nvPicPr>
            <p:cNvPr id="234" name="Rectangle 16" descr=""/>
            <p:cNvPicPr/>
            <p:nvPr/>
          </p:nvPicPr>
          <p:blipFill>
            <a:blip r:embed="rId6"/>
            <a:stretch/>
          </p:blipFill>
          <p:spPr>
            <a:xfrm>
              <a:off x="5553000" y="1542960"/>
              <a:ext cx="23907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910120" y="1557360"/>
              <a:ext cx="201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harveste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issonneur de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6" name="Line 17"/>
          <p:cNvSpPr/>
          <p:nvPr/>
        </p:nvSpPr>
        <p:spPr>
          <a:xfrm flipH="1" flipV="1">
            <a:off x="5478120" y="4869000"/>
            <a:ext cx="9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7" name="Rectangle 18"/>
          <p:cNvGrpSpPr/>
          <p:nvPr/>
        </p:nvGrpSpPr>
        <p:grpSpPr>
          <a:xfrm>
            <a:off x="5979960" y="4492800"/>
            <a:ext cx="2395800" cy="987120"/>
            <a:chOff x="5979960" y="4492800"/>
            <a:chExt cx="2395800" cy="987120"/>
          </a:xfrm>
        </p:grpSpPr>
        <p:pic>
          <p:nvPicPr>
            <p:cNvPr id="238" name="Rectangle 18" descr=""/>
            <p:cNvPicPr/>
            <p:nvPr/>
          </p:nvPicPr>
          <p:blipFill>
            <a:blip r:embed="rId7"/>
            <a:stretch/>
          </p:blipFill>
          <p:spPr>
            <a:xfrm>
              <a:off x="5979960" y="4492800"/>
              <a:ext cx="23958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342120" y="450864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searc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eur de recherch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Line 19"/>
          <p:cNvSpPr/>
          <p:nvPr/>
        </p:nvSpPr>
        <p:spPr>
          <a:xfrm flipV="1">
            <a:off x="4757760" y="3715920"/>
            <a:ext cx="647640" cy="793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Rectangle 21"/>
          <p:cNvGrpSpPr/>
          <p:nvPr/>
        </p:nvGrpSpPr>
        <p:grpSpPr>
          <a:xfrm>
            <a:off x="438120" y="4352760"/>
            <a:ext cx="2390760" cy="981360"/>
            <a:chOff x="438120" y="4352760"/>
            <a:chExt cx="2390760" cy="981360"/>
          </a:xfrm>
        </p:grpSpPr>
        <p:pic>
          <p:nvPicPr>
            <p:cNvPr id="242" name="Rectangle 21" descr=""/>
            <p:cNvPicPr/>
            <p:nvPr/>
          </p:nvPicPr>
          <p:blipFill>
            <a:blip r:embed="rId8"/>
            <a:stretch/>
          </p:blipFill>
          <p:spPr>
            <a:xfrm>
              <a:off x="438120" y="4352760"/>
              <a:ext cx="239076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797040" y="436572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-OAI-md-edit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diteur de métadonné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Line 22"/>
          <p:cNvSpPr/>
          <p:nvPr/>
        </p:nvSpPr>
        <p:spPr>
          <a:xfrm>
            <a:off x="2814480" y="4797360"/>
            <a:ext cx="646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Cas d’utilis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gestion des ressources produit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estion de l’archive institutionnelle de l’établiss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aggrégation de ressources extérieur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e UNR, une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Une utilisation complète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Établissement, UNR, UNT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AC0036-CC3D-4F6A-8D01-C18F7C18E6D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DF1244-D93C-4400-8FAD-371B8775D01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55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C2ED71-80B4-45D8-BDFD-D07C430F9994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f67"/>
              </a:gs>
              <a:gs pos="50000">
                <a:srgbClr val="76a333"/>
              </a:gs>
              <a:gs pos="100000">
                <a:srgbClr val="a5cf6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 fonctionnalités actue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De la version 1.0 à la version 1.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ion 1.0 : fin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férencement et mutualisation 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OAI-PMH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 des ressources pédagogiques 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format LO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0760" indent="-32076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ersion 1.6 : début 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implification de l’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rge diffusion et échange des contrib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Gestion centralisée et transparente des docu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égration de la GED ESUP-ECM (Nuxe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aux types de ressources et formats de métadon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LOMFR / SupLOMFR (profils d’application français du LO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CDMFR (moissonnage de l’offre de form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EF (thèses) + lien avec STAR de l’AB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6600" indent="-26676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lles fonctionnalit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Moteur de recherche : flux RSS, profil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C8B083-1E8A-42A2-86B0-CABE7F53303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776FD53-F8AA-4C59-8C21-E5188D5D0AE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67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4B3F00-E99D-4C14-959B-524E9F93EC30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31d"/>
              </a:gs>
              <a:gs pos="50000">
                <a:srgbClr val="c56f07"/>
              </a:gs>
              <a:gs pos="100000">
                <a:srgbClr val="f793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Vers une généralis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 déploi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Une généralisation du déploiem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Objectifs 2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Stabilisation de la version 1.6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ahoma"/>
              </a:rPr>
              <a:t>Soutien et aide des établissements au déploiemen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 plan national de 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ncé en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utien de la SDTICE via les 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, installation et personnalisation de ORI-O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ai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’établissements dans 8 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D5DBF1-1B10-478C-8C8D-40F86BE7EE9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Une communauté croissan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Une communauté croiss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fr-FR" sz="2400" spc="-1" strike="noStrike" baseline="30000">
                <a:solidFill>
                  <a:srgbClr val="000000"/>
                </a:solidFill>
                <a:latin typeface="Tahoma"/>
              </a:rPr>
              <a:t>ai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d’établissements e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rtail des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Tahoma"/>
              </a:rPr>
              <a:t>http://www.universites-numeriques.f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 l’étra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de mutualisation avec le Québe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EOMED (Maroc, Tunisie, Jordanie, Liban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elg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F33EDE-3520-4DF1-BA83-E20815019A8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0" y="6215040"/>
            <a:ext cx="9144000" cy="642960"/>
          </a:xfrm>
          <a:prstGeom prst="rect">
            <a:avLst/>
          </a:prstGeom>
          <a:solidFill>
            <a:srgbClr val="f0f2fe"/>
          </a:solidFill>
          <a:ln w="9360">
            <a:solidFill>
              <a:srgbClr val="f0f2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73080" y="71280"/>
            <a:ext cx="727380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1692360" y="2214720"/>
            <a:ext cx="73803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3" name="Picture 4" descr=""/>
          <p:cNvPicPr/>
          <p:nvPr/>
        </p:nvPicPr>
        <p:blipFill>
          <a:blip r:embed="rId3"/>
          <a:stretch/>
        </p:blipFill>
        <p:spPr>
          <a:xfrm>
            <a:off x="372960" y="357120"/>
            <a:ext cx="75567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4" name="Picture 5" descr=""/>
          <p:cNvPicPr/>
          <p:nvPr/>
        </p:nvPicPr>
        <p:blipFill>
          <a:blip r:embed="rId4"/>
          <a:stretch/>
        </p:blipFill>
        <p:spPr>
          <a:xfrm>
            <a:off x="1500120" y="1928880"/>
            <a:ext cx="727416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5" name="Picture 2" descr=""/>
          <p:cNvPicPr/>
          <p:nvPr/>
        </p:nvPicPr>
        <p:blipFill>
          <a:blip r:embed="rId5"/>
          <a:stretch/>
        </p:blipFill>
        <p:spPr>
          <a:xfrm>
            <a:off x="755640" y="692280"/>
            <a:ext cx="759456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6" name="Picture 7" descr=""/>
          <p:cNvPicPr/>
          <p:nvPr/>
        </p:nvPicPr>
        <p:blipFill>
          <a:blip r:embed="rId6"/>
          <a:stretch/>
        </p:blipFill>
        <p:spPr>
          <a:xfrm>
            <a:off x="1071720" y="1571760"/>
            <a:ext cx="7380000" cy="4572000"/>
          </a:xfrm>
          <a:prstGeom prst="rect">
            <a:avLst/>
          </a:prstGeom>
          <a:ln cap="sq" w="9360">
            <a:solidFill>
              <a:srgbClr val="000000"/>
            </a:solidFill>
            <a:miter/>
          </a:ln>
        </p:spPr>
      </p:pic>
      <p:pic>
        <p:nvPicPr>
          <p:cNvPr id="287" name="Picture 3" descr=""/>
          <p:cNvPicPr/>
          <p:nvPr/>
        </p:nvPicPr>
        <p:blipFill>
          <a:blip r:embed="rId7"/>
          <a:stretch/>
        </p:blipFill>
        <p:spPr>
          <a:xfrm>
            <a:off x="1187280" y="1052640"/>
            <a:ext cx="7594920" cy="509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9973E1-0134-462D-ACDE-84BBEF90251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293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ACF380-1197-4CBE-B893-C089F5A0F6C8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66ab"/>
              </a:gs>
              <a:gs pos="50000">
                <a:srgbClr val="2d487b"/>
              </a:gs>
              <a:gs pos="100000">
                <a:srgbClr val="3f66a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Les évolutions à v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ommair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C79202-12C1-421D-B1C1-5375278F04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8360" y="4005360"/>
            <a:ext cx="783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931d"/>
              </a:gs>
              <a:gs pos="50000">
                <a:srgbClr val="c56f07"/>
              </a:gs>
              <a:gs pos="100000">
                <a:srgbClr val="f7931d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rs une généralisation du déploi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8360" y="321300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5cf67"/>
              </a:gs>
              <a:gs pos="50000">
                <a:srgbClr val="76a333"/>
              </a:gs>
              <a:gs pos="100000">
                <a:srgbClr val="a5cf67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es fonctionnalités actu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468360" y="246384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254b"/>
              </a:gs>
              <a:gs pos="50000">
                <a:srgbClr val="8e1e3b"/>
              </a:gs>
              <a:gs pos="100000">
                <a:srgbClr val="b225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ne architecture pour tous les beso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468360" y="1641600"/>
            <a:ext cx="78310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d8e9"/>
              </a:gs>
              <a:gs pos="50000">
                <a:srgbClr val="68afd2"/>
              </a:gs>
              <a:gs pos="100000">
                <a:srgbClr val="b6d8e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texte et objectifs du proj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5"/>
          <p:cNvSpPr/>
          <p:nvPr/>
        </p:nvSpPr>
        <p:spPr>
          <a:xfrm>
            <a:off x="468360" y="4767120"/>
            <a:ext cx="78310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66ab"/>
              </a:gs>
              <a:gs pos="50000">
                <a:srgbClr val="2d487b"/>
              </a:gs>
              <a:gs pos="100000">
                <a:srgbClr val="3f66a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évolutions à ven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Travaux en cours et à veni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abilisation des fonctionnalité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Nouveaux types de ressources et formats de métadonné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ublications scientifiques en lien avec H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Workflow complet des thèses en lien avec ST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8920" indent="-27540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Version 2 de ORI-O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ntégration des retours fonctio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uveaux services et meilleure ergonom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Nouveau moteur de recherche (facettes, aide à la saisie, multilingue, etc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Forte intégration avec la gestion de docu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Statistiqu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Intégration/export avec/vers d’autres out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101000"/>
              </a:lnSpc>
              <a:spcBef>
                <a:spcPts val="451"/>
              </a:spcBef>
              <a:buClr>
                <a:srgbClr val="7095c0"/>
              </a:buClr>
              <a:buSzPct val="70000"/>
              <a:buFont typeface="Wingdings" charset="2"/>
              <a:buChar char="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066EE9-22B1-4B58-8F5E-F7CAC5D1556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3280" y="108720"/>
            <a:ext cx="756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epè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64760"/>
            <a:ext cx="85341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Site du proje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86ea0"/>
                </a:solidFill>
                <a:latin typeface="Tahoma"/>
              </a:rPr>
              <a:t>http://www.ori-oai.or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Contac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0F48C5-42FE-4104-8B71-48B62245345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50920" y="2852640"/>
            <a:ext cx="8534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Liste de discussion </a:t>
            </a: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ori-oai-utilisateur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66320"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6ea0"/>
                </a:solidFill>
                <a:latin typeface="Tahoma"/>
              </a:rPr>
              <a:t>http://listes.univ-rennes1.fr/wws/info/ori-oai-utilisat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</a:rPr>
              <a:t>Liste d’information </a:t>
            </a: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ori-oai-info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lvl="1" marL="1663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286ea0"/>
                </a:solidFill>
                <a:latin typeface="Tahoma"/>
              </a:rPr>
              <a:t>http://listes.univ-rennes1.fr/wws/info/ori-oai-inf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3280" y="108720"/>
            <a:ext cx="7562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ice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295280"/>
            <a:ext cx="85341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Bookman Old Style"/>
              </a:rPr>
              <a:t>Ce travail est mis à disposition sous une licence Creative Common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Vous êtes libr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 reproduire, distribuer et communiquer cette création au public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 modifier cette cré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ookman Old Style"/>
              </a:rPr>
              <a:t>Cette création est mise à disposition selon le Contrat Paternité-NonCommercial-ShareAlike 2.5 disponible en ligne http://creativecommons.org/licenses/by-nc-sa/2.5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ahoma"/>
              </a:rPr>
              <a:t>Remarque : Les transparents présentés ici ont été réalisés par :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85480">
              <a:lnSpc>
                <a:spcPct val="80000"/>
              </a:lnSpc>
              <a:spcBef>
                <a:spcPts val="349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Yohan Colmant (Université de Valencienn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D66EAF-30C6-419C-9055-3EAB3AFA49D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995640" y="2421000"/>
            <a:ext cx="1149120" cy="720360"/>
            <a:chOff x="3995640" y="2421000"/>
            <a:chExt cx="1149120" cy="720360"/>
          </a:xfrm>
        </p:grpSpPr>
        <p:pic>
          <p:nvPicPr>
            <p:cNvPr id="312" name="Picture 4" descr=""/>
            <p:cNvPicPr/>
            <p:nvPr/>
          </p:nvPicPr>
          <p:blipFill>
            <a:blip r:embed="rId1"/>
            <a:stretch/>
          </p:blipFill>
          <p:spPr>
            <a:xfrm>
              <a:off x="4056480" y="2421000"/>
              <a:ext cx="1028880" cy="3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"/>
            <p:cNvPicPr/>
            <p:nvPr/>
          </p:nvPicPr>
          <p:blipFill>
            <a:blip r:embed="rId2"/>
            <a:stretch/>
          </p:blipFill>
          <p:spPr>
            <a:xfrm>
              <a:off x="3995640" y="2941920"/>
              <a:ext cx="18108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6" descr=""/>
            <p:cNvPicPr/>
            <p:nvPr/>
          </p:nvPicPr>
          <p:blipFill>
            <a:blip r:embed="rId3"/>
            <a:stretch/>
          </p:blipFill>
          <p:spPr>
            <a:xfrm>
              <a:off x="4478760" y="2941920"/>
              <a:ext cx="181440" cy="1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7" descr=""/>
            <p:cNvPicPr/>
            <p:nvPr/>
          </p:nvPicPr>
          <p:blipFill>
            <a:blip r:embed="rId4"/>
            <a:stretch/>
          </p:blipFill>
          <p:spPr>
            <a:xfrm>
              <a:off x="4963320" y="2941920"/>
              <a:ext cx="181440" cy="199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4A024-8E90-4C46-A105-A2DF8800AFE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2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126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E333F8-8EF6-48E7-A652-F40DF9DC21A7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2"/>
          <p:cNvSpPr/>
          <p:nvPr/>
        </p:nvSpPr>
        <p:spPr>
          <a:xfrm>
            <a:off x="1550880" y="2852640"/>
            <a:ext cx="6189840" cy="151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d8e9"/>
              </a:gs>
              <a:gs pos="50000">
                <a:srgbClr val="68afd2"/>
              </a:gs>
              <a:gs pos="100000">
                <a:srgbClr val="b6d8e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exte et objec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u proj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e la date 6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Espace réservé du pied de page 8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Espace réservé du numéro de diapositive 7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A15F82-1716-4339-B3EE-6DC214DE740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Rappel du context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184040"/>
            <a:ext cx="85327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-OAI répond à des besoins complémentaires à différents niveau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s établissements universitai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s Universités Numériques Thématiques (U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1000"/>
              </a:lnSpc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ORI-OAI : projet Open Source inter-UNT soutenu par la SD/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28D878-4C5A-46DF-B3F2-8ECA750BB29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e besoin des établissement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es établissements universitaire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roissance de la création numérique institutionn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ccessibilité aux res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érentiel unique de documents, indexation professionnel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« Système Global d’Information 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1000"/>
              </a:lnSpc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Mise en place de la démarche « </a:t>
            </a: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patrimoine numérique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 » des établisseme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60E6C0-17C6-4DB8-9A9B-164843AB7BC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31024E-50EB-49A7-88BB-BC1C3FD54EC9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Le besoin des U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Les UNT (Universités Numériques Thématiques)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flexion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f7931d"/>
              </a:buClr>
              <a:buSzPct val="65000"/>
              <a:buFont typeface="Wingdings" charset="2"/>
              <a:buChar char="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volution du portail et choix d’une organisation en « réseau de portails OAI-PMH»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vergence sur les besoins de référencement et d’indexation avec l’UNT UV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écessité de mutualiser les outils et les moyens d’accompagnement pour favoriser la démarche avec l’ensemble des 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B818E0-AC3C-449F-B725-589931A406C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Espace réservé du numéro de diapositive 5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E47824-0412-48CA-9361-1FC23E119621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Les objectifs du proje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125360"/>
            <a:ext cx="8532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Gérer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et </a:t>
            </a:r>
            <a:r>
              <a:rPr b="1" lang="fr-FR" sz="2700" spc="-1" strike="noStrike">
                <a:solidFill>
                  <a:srgbClr val="000000"/>
                </a:solidFill>
                <a:latin typeface="Tahoma"/>
              </a:rPr>
              <a:t>publier</a:t>
            </a:r>
            <a:r>
              <a:rPr b="0" lang="fr-FR" sz="2700" spc="-1" strike="noStrike">
                <a:solidFill>
                  <a:srgbClr val="000000"/>
                </a:solidFill>
                <a:latin typeface="Tahoma"/>
              </a:rPr>
              <a:t> les ressources numériques de l’établissement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urs, thèses, publications, doc. administratif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Valoris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la production de l’établissement par une indexation de qualité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Partag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les ressources numériques avec d’autres établissement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lvl="1" marL="704160" indent="-2696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4000" indent="-32400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Accéder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aux ressources numériques à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GB" sz="2700" spc="-1" strike="noStrike">
                <a:solidFill>
                  <a:srgbClr val="000000"/>
                </a:solidFill>
                <a:latin typeface="Tahoma"/>
              </a:rPr>
              <a:t> en fonction des </a:t>
            </a:r>
            <a:r>
              <a:rPr b="1" lang="en-GB" sz="2700" spc="-1" strike="noStrike">
                <a:solidFill>
                  <a:srgbClr val="000000"/>
                </a:solidFill>
                <a:latin typeface="Tahoma"/>
              </a:rPr>
              <a:t>droits d’accès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Espace réservé de la date 3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Espace réservé du pied de page 4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A7815B-35EC-4D95-8C5A-F0C9F709101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e la date 6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Espace réservé du pied de page 8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Espace réservé du numéro de diapositive 7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740640-07FE-442F-B17A-9A0D53CEAD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Tahoma"/>
              </a:rPr>
              <a:t>Les objectifs du proje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84040"/>
            <a:ext cx="853272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675"/>
              </a:spcBef>
              <a:buClr>
                <a:srgbClr val="2f90b1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e groupe de travail ORI-OAI vise l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développement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de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communautés OAI-PMH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0">
              <a:lnSpc>
                <a:spcPct val="101000"/>
              </a:lnSpc>
              <a:spcBef>
                <a:spcPts val="601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lnSpc>
                <a:spcPct val="101000"/>
              </a:lnSpc>
              <a:spcBef>
                <a:spcPts val="601"/>
              </a:spcBef>
              <a:buClr>
                <a:srgbClr val="b2254b"/>
              </a:buClr>
              <a:buSzPct val="6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l propose une implémentation de référence du protocole OAI-PMH ainsi que les outils nécessaires à la mise en place de ces communautés et à la bonne intégration aux communautés exist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52DD5F-70E1-43DA-B071-5D13683D5B9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56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jet ORI-OAI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Espace réservé de la date 2"/>
          <p:cNvSpPr/>
          <p:nvPr/>
        </p:nvSpPr>
        <p:spPr>
          <a:xfrm>
            <a:off x="304920" y="6453360"/>
            <a:ext cx="1963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5 jui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Espace réservé du pied de page 3"/>
          <p:cNvSpPr/>
          <p:nvPr/>
        </p:nvSpPr>
        <p:spPr>
          <a:xfrm>
            <a:off x="2268360" y="6453360"/>
            <a:ext cx="5502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ORI-OAI / CIUEN 20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Espace réservé du numéro de diapositive 4"/>
          <p:cNvSpPr/>
          <p:nvPr/>
        </p:nvSpPr>
        <p:spPr>
          <a:xfrm>
            <a:off x="7772400" y="6453360"/>
            <a:ext cx="10652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151E06-E7C0-4226-95B6-E45A4A700B2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ori-sans-or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411280" y="1709640"/>
            <a:ext cx="4386240" cy="4024440"/>
          </a:xfrm>
          <a:prstGeom prst="rect">
            <a:avLst/>
          </a:prstGeom>
          <a:ln w="0">
            <a:noFill/>
          </a:ln>
        </p:spPr>
      </p:pic>
      <p:sp>
        <p:nvSpPr>
          <p:cNvPr id="162" name="Espace réservé du numéro de diapositive 4"/>
          <p:cNvSpPr/>
          <p:nvPr/>
        </p:nvSpPr>
        <p:spPr>
          <a:xfrm>
            <a:off x="7772400" y="6431040"/>
            <a:ext cx="1065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957692-E241-4B93-BAE0-CACD363F7298}" type="slidenum">
              <a:rPr b="0" lang="en-GB" sz="1200" spc="-1" strike="noStrike">
                <a:solidFill>
                  <a:srgbClr val="b2b2b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550880" y="2852640"/>
            <a:ext cx="618984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254b"/>
              </a:gs>
              <a:gs pos="50000">
                <a:srgbClr val="8e1e3b"/>
              </a:gs>
              <a:gs pos="100000">
                <a:srgbClr val="b2254b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ne architecture po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us les beso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ohan</dc:creator>
  <dc:description/>
  <dc:language>en-US</dc:language>
  <cp:lastModifiedBy>Hewlett-Packard Company</cp:lastModifiedBy>
  <dcterms:modified xsi:type="dcterms:W3CDTF">2016-01-13T12:53:36Z</dcterms:modified>
  <cp:revision>451</cp:revision>
  <dc:subject/>
  <dc:title>ORI-OAI: Referencing and Indexing Tool for a Network of OAI Portals</dc:title>
</cp:coreProperties>
</file>