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10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9907588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907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"/>
          <p:cNvSpPr/>
          <p:nvPr/>
        </p:nvSpPr>
        <p:spPr>
          <a:xfrm>
            <a:off x="0" y="0"/>
            <a:ext cx="9906120" cy="688356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9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5611680" y="-360"/>
            <a:ext cx="4291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6539040"/>
            <a:ext cx="4290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182B4-6FF3-455E-894E-35E358DB14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92035-85A6-4B03-8066-72EC8AFFE2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34729-BD4E-4948-A14A-6C7CA19532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EF581-D31A-4B92-A2DA-AF3803B9B8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7F743-008F-4FEC-9B92-1EA2BF6003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CDE5E-9E29-459C-AF75-840A505432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9DA31-FB47-460B-BFB8-02467AFFFA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5C75A-B756-4252-B0EC-7A9EFD462A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51ACB-C2A5-4AEC-A461-C0817FE6D6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6CC81-E192-4E76-BBF4-36D6768E69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84F9F-E61D-4EAF-8196-2F0DDA6E4C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DB6A-368E-4A21-9DEA-9192EE46CC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D1B85-220F-4E4A-B48D-6F079CC531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DCCBC-F885-4FCA-A44D-AED3846C9B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1262C-60FC-4172-B7D4-DEE32EF367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A4782-DD12-460A-A9E9-01A89AC649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4BD01-4D42-40C7-B216-45F411B476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B06F8-3600-4242-BA26-55EB85CFF4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E6D-867F-46ED-ADA2-C50293D4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4BB-2FB2-4C44-832E-D32F0720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B1D-709C-479B-AC1A-93EB0EAE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96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464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96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464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3C9-7A66-4A29-A1BB-8F8BF827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06B-E01F-4568-B7A4-EF3ABBEB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8996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464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492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8996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7464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7E8-5243-42CC-8078-A3B7975F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D99-1D3D-4882-92EB-53B2238B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05D-CBC8-42B3-A49D-7295EB35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9C4-FDB8-4B72-A124-2F713151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8F5-4337-4972-8F94-4784BE3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B6D-5001-4043-93D2-1817EAC9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7BE-AA62-4EC7-9BCE-2BC203B2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75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675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675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6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Group 20"/>
          <p:cNvGrpSpPr/>
          <p:nvPr/>
        </p:nvGrpSpPr>
        <p:grpSpPr>
          <a:xfrm>
            <a:off x="0" y="790560"/>
            <a:ext cx="9144000" cy="208080"/>
            <a:chOff x="0" y="790560"/>
            <a:chExt cx="9144000" cy="208080"/>
          </a:xfrm>
        </p:grpSpPr>
        <p:sp>
          <p:nvSpPr>
            <p:cNvPr id="3" name="Rectangle 6"/>
            <p:cNvSpPr/>
            <p:nvPr/>
          </p:nvSpPr>
          <p:spPr>
            <a:xfrm>
              <a:off x="0" y="790560"/>
              <a:ext cx="9144000" cy="18756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17"/>
            <p:cNvSpPr/>
            <p:nvPr/>
          </p:nvSpPr>
          <p:spPr>
            <a:xfrm>
              <a:off x="0" y="97020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Group 21"/>
          <p:cNvGrpSpPr/>
          <p:nvPr/>
        </p:nvGrpSpPr>
        <p:grpSpPr>
          <a:xfrm>
            <a:off x="0" y="6640560"/>
            <a:ext cx="9144000" cy="217440"/>
            <a:chOff x="0" y="6640560"/>
            <a:chExt cx="9144000" cy="217440"/>
          </a:xfrm>
        </p:grpSpPr>
        <p:sp>
          <p:nvSpPr>
            <p:cNvPr id="6" name="Rectangle 3"/>
            <p:cNvSpPr/>
            <p:nvPr/>
          </p:nvSpPr>
          <p:spPr>
            <a:xfrm>
              <a:off x="0" y="6669000"/>
              <a:ext cx="9144000" cy="18900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19"/>
            <p:cNvSpPr/>
            <p:nvPr/>
          </p:nvSpPr>
          <p:spPr>
            <a:xfrm>
              <a:off x="0" y="664056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04920" y="6453000"/>
            <a:ext cx="196344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268000" y="6453000"/>
            <a:ext cx="5502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2040" y="6453000"/>
            <a:ext cx="106524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B75F3A-8E1B-4785-AD33-55EA5F9A56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6" descr="bandeau-sans-texte"/>
          <p:cNvPicPr/>
          <p:nvPr/>
        </p:nvPicPr>
        <p:blipFill>
          <a:blip r:embed="rId2"/>
          <a:srcRect l="1056" t="0" r="0" b="0"/>
          <a:stretch/>
        </p:blipFill>
        <p:spPr>
          <a:xfrm>
            <a:off x="0" y="0"/>
            <a:ext cx="918828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3" descr="Image2.bmp"/>
          <p:cNvPicPr/>
          <p:nvPr/>
        </p:nvPicPr>
        <p:blipFill>
          <a:blip r:embed="rId2"/>
          <a:stretch/>
        </p:blipFill>
        <p:spPr>
          <a:xfrm>
            <a:off x="7613640" y="5394240"/>
            <a:ext cx="1536840" cy="14637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5"/>
          <p:cNvGrpSpPr/>
          <p:nvPr/>
        </p:nvGrpSpPr>
        <p:grpSpPr>
          <a:xfrm>
            <a:off x="0" y="0"/>
            <a:ext cx="9144000" cy="208080"/>
            <a:chOff x="0" y="0"/>
            <a:chExt cx="9144000" cy="208080"/>
          </a:xfrm>
        </p:grpSpPr>
        <p:sp>
          <p:nvSpPr>
            <p:cNvPr id="50" name="Rectangle 6"/>
            <p:cNvSpPr/>
            <p:nvPr/>
          </p:nvSpPr>
          <p:spPr>
            <a:xfrm>
              <a:off x="0" y="0"/>
              <a:ext cx="9144000" cy="18756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17964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" name="Picture 32" descr="1102046_84848619"/>
          <p:cNvPicPr/>
          <p:nvPr/>
        </p:nvPicPr>
        <p:blipFill>
          <a:blip r:embed="rId3"/>
          <a:srcRect l="0" t="0" r="0" b="5411"/>
          <a:stretch/>
        </p:blipFill>
        <p:spPr>
          <a:xfrm>
            <a:off x="0" y="5415120"/>
            <a:ext cx="1525680" cy="144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1121894_55941276"/>
          <p:cNvPicPr/>
          <p:nvPr/>
        </p:nvPicPr>
        <p:blipFill>
          <a:blip r:embed="rId4"/>
          <a:srcRect l="0" t="0" r="0" b="5319"/>
          <a:stretch/>
        </p:blipFill>
        <p:spPr>
          <a:xfrm>
            <a:off x="1521000" y="5416560"/>
            <a:ext cx="152208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1160562_32750485"/>
          <p:cNvPicPr/>
          <p:nvPr/>
        </p:nvPicPr>
        <p:blipFill>
          <a:blip r:embed="rId5"/>
          <a:srcRect l="0" t="0" r="0" b="5411"/>
          <a:stretch/>
        </p:blipFill>
        <p:spPr>
          <a:xfrm>
            <a:off x="3043080" y="5415120"/>
            <a:ext cx="1525680" cy="144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1154210_96382957"/>
          <p:cNvPicPr/>
          <p:nvPr/>
        </p:nvPicPr>
        <p:blipFill>
          <a:blip r:embed="rId6"/>
          <a:srcRect l="0" t="0" r="0" b="5419"/>
          <a:stretch/>
        </p:blipFill>
        <p:spPr>
          <a:xfrm>
            <a:off x="6095880" y="5415120"/>
            <a:ext cx="152568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6" descr="001"/>
          <p:cNvPicPr/>
          <p:nvPr/>
        </p:nvPicPr>
        <p:blipFill>
          <a:blip r:embed="rId7"/>
          <a:srcRect l="0" t="0" r="0" b="5414"/>
          <a:stretch/>
        </p:blipFill>
        <p:spPr>
          <a:xfrm>
            <a:off x="4565520" y="5415120"/>
            <a:ext cx="1525680" cy="14428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0" y="5199120"/>
            <a:ext cx="9144000" cy="217440"/>
            <a:chOff x="0" y="5199120"/>
            <a:chExt cx="9144000" cy="217440"/>
          </a:xfrm>
        </p:grpSpPr>
        <p:sp>
          <p:nvSpPr>
            <p:cNvPr id="58" name="Rectangle 9"/>
            <p:cNvSpPr/>
            <p:nvPr/>
          </p:nvSpPr>
          <p:spPr>
            <a:xfrm>
              <a:off x="0" y="5227560"/>
              <a:ext cx="9144000" cy="18900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519912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Text Box 38"/>
          <p:cNvSpPr/>
          <p:nvPr/>
        </p:nvSpPr>
        <p:spPr>
          <a:xfrm>
            <a:off x="1258920" y="836640"/>
            <a:ext cx="3313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39"/>
          <p:cNvSpPr/>
          <p:nvPr/>
        </p:nvSpPr>
        <p:spPr>
          <a:xfrm>
            <a:off x="179280" y="1844640"/>
            <a:ext cx="56167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>
                <a:solidFill>
                  <a:srgbClr val="2d487b"/>
                </a:solidFill>
                <a:latin typeface="Arial"/>
              </a:rPr>
              <a:t>Projet ORI-OAI</a:t>
            </a:r>
            <a:br>
              <a:rPr sz="2600"/>
            </a:b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O</a:t>
            </a: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util de </a:t>
            </a: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R</a:t>
            </a: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éférencement et d’</a:t>
            </a: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ndexation</a:t>
            </a:r>
            <a:br>
              <a:rPr sz="2400"/>
            </a:b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Réseau de portails </a:t>
            </a: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0" descr="ori-sans-org"/>
          <p:cNvPicPr/>
          <p:nvPr/>
        </p:nvPicPr>
        <p:blipFill>
          <a:blip r:embed="rId8"/>
          <a:stretch/>
        </p:blipFill>
        <p:spPr>
          <a:xfrm>
            <a:off x="5867280" y="404640"/>
            <a:ext cx="2376720" cy="2181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75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675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675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6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660320" y="4321080"/>
            <a:ext cx="73040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1000"/>
              </a:lnSpc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IUEN, 15 juin 2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708360" y="3428640"/>
            <a:ext cx="52531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ers une généralisation du projet et évolution des fonctionnalit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811080" y="3645000"/>
            <a:ext cx="1938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Espace réservé de la date 30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Espace réservé du pied de page 31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A3B7D7-278F-4BAF-B3C3-EA0394CB82C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AutoShape 110"/>
          <p:cNvGrpSpPr/>
          <p:nvPr/>
        </p:nvGrpSpPr>
        <p:grpSpPr>
          <a:xfrm>
            <a:off x="2871720" y="2328840"/>
            <a:ext cx="3327480" cy="2395440"/>
            <a:chOff x="2871720" y="2328840"/>
            <a:chExt cx="3327480" cy="2395440"/>
          </a:xfrm>
        </p:grpSpPr>
        <p:pic>
          <p:nvPicPr>
            <p:cNvPr id="170" name="AutoShape 110" descr=""/>
            <p:cNvPicPr/>
            <p:nvPr/>
          </p:nvPicPr>
          <p:blipFill>
            <a:blip r:embed="rId1"/>
            <a:stretch/>
          </p:blipFill>
          <p:spPr>
            <a:xfrm>
              <a:off x="2871720" y="2328840"/>
              <a:ext cx="332748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930400" y="2359080"/>
              <a:ext cx="321156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2" name="Picture 99" descr="ddimage2"/>
          <p:cNvPicPr/>
          <p:nvPr/>
        </p:nvPicPr>
        <p:blipFill>
          <a:blip r:embed="rId2"/>
          <a:stretch/>
        </p:blipFill>
        <p:spPr>
          <a:xfrm>
            <a:off x="6504120" y="4900680"/>
            <a:ext cx="2341440" cy="3036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0" descr="ddimage3"/>
          <p:cNvPicPr/>
          <p:nvPr/>
        </p:nvPicPr>
        <p:blipFill>
          <a:blip r:embed="rId3"/>
          <a:stretch/>
        </p:blipFill>
        <p:spPr>
          <a:xfrm>
            <a:off x="6718320" y="2682720"/>
            <a:ext cx="2376360" cy="3048120"/>
          </a:xfrm>
          <a:prstGeom prst="rect">
            <a:avLst/>
          </a:prstGeom>
          <a:ln w="0">
            <a:noFill/>
          </a:ln>
        </p:spPr>
      </p:pic>
      <p:pic>
        <p:nvPicPr>
          <p:cNvPr id="174" name="Groupe 29" descr=""/>
          <p:cNvPicPr/>
          <p:nvPr/>
        </p:nvPicPr>
        <p:blipFill>
          <a:blip r:embed="rId4"/>
          <a:stretch/>
        </p:blipFill>
        <p:spPr>
          <a:xfrm>
            <a:off x="6357960" y="542880"/>
            <a:ext cx="2378160" cy="303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6" descr="ddimage7"/>
          <p:cNvPicPr/>
          <p:nvPr/>
        </p:nvPicPr>
        <p:blipFill>
          <a:blip r:embed="rId5"/>
          <a:stretch/>
        </p:blipFill>
        <p:spPr>
          <a:xfrm>
            <a:off x="3359160" y="682560"/>
            <a:ext cx="2340000" cy="304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7" descr="ddimage8"/>
          <p:cNvPicPr/>
          <p:nvPr/>
        </p:nvPicPr>
        <p:blipFill>
          <a:blip r:embed="rId6"/>
          <a:stretch/>
        </p:blipFill>
        <p:spPr>
          <a:xfrm>
            <a:off x="371520" y="4900680"/>
            <a:ext cx="2341440" cy="3036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8" descr="ddimage9"/>
          <p:cNvPicPr/>
          <p:nvPr/>
        </p:nvPicPr>
        <p:blipFill>
          <a:blip r:embed="rId7"/>
          <a:stretch/>
        </p:blipFill>
        <p:spPr>
          <a:xfrm>
            <a:off x="3371760" y="4900680"/>
            <a:ext cx="2340000" cy="3036960"/>
          </a:xfrm>
          <a:prstGeom prst="rect">
            <a:avLst/>
          </a:prstGeom>
          <a:ln w="0">
            <a:noFill/>
          </a:ln>
        </p:spPr>
      </p:pic>
      <p:grpSp>
        <p:nvGrpSpPr>
          <p:cNvPr id="178" name="AutoShape 55"/>
          <p:cNvGrpSpPr/>
          <p:nvPr/>
        </p:nvGrpSpPr>
        <p:grpSpPr>
          <a:xfrm>
            <a:off x="5138640" y="3200400"/>
            <a:ext cx="2237040" cy="895320"/>
            <a:chOff x="5138640" y="3200400"/>
            <a:chExt cx="2237040" cy="895320"/>
          </a:xfrm>
        </p:grpSpPr>
        <p:pic>
          <p:nvPicPr>
            <p:cNvPr id="179" name="AutoShape 55" descr=""/>
            <p:cNvPicPr/>
            <p:nvPr/>
          </p:nvPicPr>
          <p:blipFill>
            <a:blip r:embed="rId8"/>
            <a:stretch/>
          </p:blipFill>
          <p:spPr>
            <a:xfrm>
              <a:off x="5138640" y="3200400"/>
              <a:ext cx="2237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500800" y="321480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reposi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epôt d'exposition des métadonné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AutoShape 57"/>
          <p:cNvGrpSpPr/>
          <p:nvPr/>
        </p:nvGrpSpPr>
        <p:grpSpPr>
          <a:xfrm>
            <a:off x="3213000" y="2127240"/>
            <a:ext cx="2376720" cy="901800"/>
            <a:chOff x="3213000" y="2127240"/>
            <a:chExt cx="2376720" cy="901800"/>
          </a:xfrm>
        </p:grpSpPr>
        <p:pic>
          <p:nvPicPr>
            <p:cNvPr id="182" name="AutoShape 57" descr=""/>
            <p:cNvPicPr/>
            <p:nvPr/>
          </p:nvPicPr>
          <p:blipFill>
            <a:blip r:embed="rId9"/>
            <a:stretch/>
          </p:blipFill>
          <p:spPr>
            <a:xfrm>
              <a:off x="3213000" y="2127240"/>
              <a:ext cx="2376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571920" y="2143080"/>
              <a:ext cx="20001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UP-ECM + ORI-OAI-nuxe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age des documen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 gestion des authentification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AutoShape 58"/>
          <p:cNvGrpSpPr/>
          <p:nvPr/>
        </p:nvGrpSpPr>
        <p:grpSpPr>
          <a:xfrm>
            <a:off x="3286080" y="4340160"/>
            <a:ext cx="2230560" cy="897120"/>
            <a:chOff x="3286080" y="4340160"/>
            <a:chExt cx="2230560" cy="897120"/>
          </a:xfrm>
        </p:grpSpPr>
        <p:pic>
          <p:nvPicPr>
            <p:cNvPr id="185" name="AutoShape 58" descr=""/>
            <p:cNvPicPr/>
            <p:nvPr/>
          </p:nvPicPr>
          <p:blipFill>
            <a:blip r:embed="rId10"/>
            <a:stretch/>
          </p:blipFill>
          <p:spPr>
            <a:xfrm>
              <a:off x="3286080" y="4340160"/>
              <a:ext cx="22305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643200" y="4357800"/>
              <a:ext cx="1857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vocabula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e vocabulair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AutoShape 59"/>
          <p:cNvGrpSpPr/>
          <p:nvPr/>
        </p:nvGrpSpPr>
        <p:grpSpPr>
          <a:xfrm>
            <a:off x="5638680" y="1841400"/>
            <a:ext cx="2237040" cy="895320"/>
            <a:chOff x="5638680" y="1841400"/>
            <a:chExt cx="2237040" cy="895320"/>
          </a:xfrm>
        </p:grpSpPr>
        <p:pic>
          <p:nvPicPr>
            <p:cNvPr id="188" name="AutoShape 59" descr=""/>
            <p:cNvPicPr/>
            <p:nvPr/>
          </p:nvPicPr>
          <p:blipFill>
            <a:blip r:embed="rId11"/>
            <a:stretch/>
          </p:blipFill>
          <p:spPr>
            <a:xfrm>
              <a:off x="5638680" y="1841400"/>
              <a:ext cx="2237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000840" y="185724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harvest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issonneur de métadonné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AutoShape 60"/>
          <p:cNvGrpSpPr/>
          <p:nvPr/>
        </p:nvGrpSpPr>
        <p:grpSpPr>
          <a:xfrm>
            <a:off x="927000" y="4498920"/>
            <a:ext cx="2230560" cy="895320"/>
            <a:chOff x="927000" y="4498920"/>
            <a:chExt cx="2230560" cy="895320"/>
          </a:xfrm>
        </p:grpSpPr>
        <p:pic>
          <p:nvPicPr>
            <p:cNvPr id="191" name="AutoShape 60" descr=""/>
            <p:cNvPicPr/>
            <p:nvPr/>
          </p:nvPicPr>
          <p:blipFill>
            <a:blip r:embed="rId12"/>
            <a:stretch/>
          </p:blipFill>
          <p:spPr>
            <a:xfrm>
              <a:off x="927000" y="4498920"/>
              <a:ext cx="2230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285920" y="451476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index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'indexa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AutoShape 61"/>
          <p:cNvGrpSpPr/>
          <p:nvPr/>
        </p:nvGrpSpPr>
        <p:grpSpPr>
          <a:xfrm>
            <a:off x="5572080" y="4486320"/>
            <a:ext cx="2230560" cy="896760"/>
            <a:chOff x="5572080" y="4486320"/>
            <a:chExt cx="2230560" cy="896760"/>
          </a:xfrm>
        </p:grpSpPr>
        <p:pic>
          <p:nvPicPr>
            <p:cNvPr id="194" name="AutoShape 61" descr=""/>
            <p:cNvPicPr/>
            <p:nvPr/>
          </p:nvPicPr>
          <p:blipFill>
            <a:blip r:embed="rId13"/>
            <a:stretch/>
          </p:blipFill>
          <p:spPr>
            <a:xfrm>
              <a:off x="5572080" y="4486320"/>
              <a:ext cx="223056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929200" y="4500720"/>
              <a:ext cx="1857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searc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e recherch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6" name="Picture 115" descr="ddimage6"/>
          <p:cNvPicPr/>
          <p:nvPr/>
        </p:nvPicPr>
        <p:blipFill>
          <a:blip r:embed="rId14"/>
          <a:stretch/>
        </p:blipFill>
        <p:spPr>
          <a:xfrm>
            <a:off x="73080" y="2682720"/>
            <a:ext cx="23414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97" name="AutoShape 116"/>
          <p:cNvGrpSpPr/>
          <p:nvPr/>
        </p:nvGrpSpPr>
        <p:grpSpPr>
          <a:xfrm>
            <a:off x="1285920" y="3200400"/>
            <a:ext cx="2232000" cy="895320"/>
            <a:chOff x="1285920" y="3200400"/>
            <a:chExt cx="2232000" cy="895320"/>
          </a:xfrm>
        </p:grpSpPr>
        <p:pic>
          <p:nvPicPr>
            <p:cNvPr id="198" name="AutoShape 116" descr=""/>
            <p:cNvPicPr/>
            <p:nvPr/>
          </p:nvPicPr>
          <p:blipFill>
            <a:blip r:embed="rId15"/>
            <a:stretch/>
          </p:blipFill>
          <p:spPr>
            <a:xfrm>
              <a:off x="1285920" y="3200400"/>
              <a:ext cx="22320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643040" y="321480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md-edit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diteur de métadonné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117" descr="ddimage5"/>
          <p:cNvPicPr/>
          <p:nvPr/>
        </p:nvPicPr>
        <p:blipFill>
          <a:blip r:embed="rId16"/>
          <a:stretch/>
        </p:blipFill>
        <p:spPr>
          <a:xfrm>
            <a:off x="334800" y="542880"/>
            <a:ext cx="2378160" cy="3035520"/>
          </a:xfrm>
          <a:prstGeom prst="rect">
            <a:avLst/>
          </a:prstGeom>
          <a:ln w="0">
            <a:noFill/>
          </a:ln>
        </p:spPr>
      </p:pic>
      <p:grpSp>
        <p:nvGrpSpPr>
          <p:cNvPr id="201" name="AutoShape 118"/>
          <p:cNvGrpSpPr/>
          <p:nvPr/>
        </p:nvGrpSpPr>
        <p:grpSpPr>
          <a:xfrm>
            <a:off x="927000" y="1841400"/>
            <a:ext cx="2230560" cy="895320"/>
            <a:chOff x="927000" y="1841400"/>
            <a:chExt cx="2230560" cy="895320"/>
          </a:xfrm>
        </p:grpSpPr>
        <p:pic>
          <p:nvPicPr>
            <p:cNvPr id="202" name="AutoShape 118" descr=""/>
            <p:cNvPicPr/>
            <p:nvPr/>
          </p:nvPicPr>
          <p:blipFill>
            <a:blip r:embed="rId17"/>
            <a:stretch/>
          </p:blipFill>
          <p:spPr>
            <a:xfrm>
              <a:off x="927000" y="1841400"/>
              <a:ext cx="2230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285920" y="185724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worflow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u workflow de saisi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4" name="Picture 119" descr="ori-sans-org"/>
          <p:cNvPicPr/>
          <p:nvPr/>
        </p:nvPicPr>
        <p:blipFill>
          <a:blip r:embed="rId18"/>
          <a:stretch/>
        </p:blipFill>
        <p:spPr>
          <a:xfrm>
            <a:off x="3786120" y="2859120"/>
            <a:ext cx="14256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Architecture complè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28538E-969B-42D5-A9AF-D83229BF6D2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622560" y="5589360"/>
            <a:ext cx="252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8 modu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eropér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2"/>
          <p:cNvSpPr/>
          <p:nvPr/>
        </p:nvSpPr>
        <p:spPr>
          <a:xfrm flipH="1" flipV="1">
            <a:off x="2974680" y="2071440"/>
            <a:ext cx="1927080" cy="121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3"/>
          <p:cNvSpPr/>
          <p:nvPr/>
        </p:nvSpPr>
        <p:spPr>
          <a:xfrm flipV="1">
            <a:off x="6702480" y="371628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 flipV="1">
            <a:off x="1878120" y="2205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814480" y="342900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1878120" y="3716280"/>
            <a:ext cx="144360" cy="64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038480" y="2205000"/>
            <a:ext cx="0" cy="230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4541760" y="2205000"/>
            <a:ext cx="79236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Rectangle 10"/>
          <p:cNvGrpSpPr/>
          <p:nvPr/>
        </p:nvGrpSpPr>
        <p:grpSpPr>
          <a:xfrm>
            <a:off x="328680" y="1542960"/>
            <a:ext cx="2663640" cy="987480"/>
            <a:chOff x="328680" y="1542960"/>
            <a:chExt cx="2663640" cy="987480"/>
          </a:xfrm>
        </p:grpSpPr>
        <p:pic>
          <p:nvPicPr>
            <p:cNvPr id="218" name="Rectangle 10" descr=""/>
            <p:cNvPicPr/>
            <p:nvPr/>
          </p:nvPicPr>
          <p:blipFill>
            <a:blip r:embed="rId1"/>
            <a:stretch/>
          </p:blipFill>
          <p:spPr>
            <a:xfrm>
              <a:off x="328680" y="1542960"/>
              <a:ext cx="2663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9040" y="1557360"/>
              <a:ext cx="228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UP-ECM+ORI-OAI-nuxe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age des documents 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 des authentif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Rectangle 11"/>
          <p:cNvGrpSpPr/>
          <p:nvPr/>
        </p:nvGrpSpPr>
        <p:grpSpPr>
          <a:xfrm>
            <a:off x="3029040" y="1542960"/>
            <a:ext cx="2390760" cy="987480"/>
            <a:chOff x="3029040" y="1542960"/>
            <a:chExt cx="2390760" cy="987480"/>
          </a:xfrm>
        </p:grpSpPr>
        <p:pic>
          <p:nvPicPr>
            <p:cNvPr id="221" name="Rectangle 11" descr=""/>
            <p:cNvPicPr/>
            <p:nvPr/>
          </p:nvPicPr>
          <p:blipFill>
            <a:blip r:embed="rId2"/>
            <a:stretch/>
          </p:blipFill>
          <p:spPr>
            <a:xfrm>
              <a:off x="3029040" y="1542960"/>
              <a:ext cx="23907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389400" y="155736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reposito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epôt d’exposi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Rectangle 12"/>
          <p:cNvGrpSpPr/>
          <p:nvPr/>
        </p:nvGrpSpPr>
        <p:grpSpPr>
          <a:xfrm>
            <a:off x="4541760" y="3054240"/>
            <a:ext cx="2389320" cy="987480"/>
            <a:chOff x="4541760" y="3054240"/>
            <a:chExt cx="2389320" cy="987480"/>
          </a:xfrm>
        </p:grpSpPr>
        <p:pic>
          <p:nvPicPr>
            <p:cNvPr id="224" name="Rectangle 12" descr=""/>
            <p:cNvPicPr/>
            <p:nvPr/>
          </p:nvPicPr>
          <p:blipFill>
            <a:blip r:embed="rId3"/>
            <a:stretch/>
          </p:blipFill>
          <p:spPr>
            <a:xfrm>
              <a:off x="4541760" y="3054240"/>
              <a:ext cx="23893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902120" y="3068640"/>
              <a:ext cx="2016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index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’index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Rectangle 13"/>
          <p:cNvGrpSpPr/>
          <p:nvPr/>
        </p:nvGrpSpPr>
        <p:grpSpPr>
          <a:xfrm>
            <a:off x="512640" y="3054240"/>
            <a:ext cx="2389320" cy="987480"/>
            <a:chOff x="512640" y="3054240"/>
            <a:chExt cx="2389320" cy="987480"/>
          </a:xfrm>
        </p:grpSpPr>
        <p:pic>
          <p:nvPicPr>
            <p:cNvPr id="227" name="Rectangle 13" descr=""/>
            <p:cNvPicPr/>
            <p:nvPr/>
          </p:nvPicPr>
          <p:blipFill>
            <a:blip r:embed="rId4"/>
            <a:stretch/>
          </p:blipFill>
          <p:spPr>
            <a:xfrm>
              <a:off x="512640" y="3054240"/>
              <a:ext cx="23893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70120" y="306864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u workflow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saisie des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Rectangle 14"/>
          <p:cNvGrpSpPr/>
          <p:nvPr/>
        </p:nvGrpSpPr>
        <p:grpSpPr>
          <a:xfrm>
            <a:off x="3103560" y="4492800"/>
            <a:ext cx="2389320" cy="987120"/>
            <a:chOff x="3103560" y="4492800"/>
            <a:chExt cx="2389320" cy="987120"/>
          </a:xfrm>
        </p:grpSpPr>
        <p:pic>
          <p:nvPicPr>
            <p:cNvPr id="230" name="Rectangle 14" descr=""/>
            <p:cNvPicPr/>
            <p:nvPr/>
          </p:nvPicPr>
          <p:blipFill>
            <a:blip r:embed="rId5"/>
            <a:stretch/>
          </p:blipFill>
          <p:spPr>
            <a:xfrm>
              <a:off x="3103560" y="4492800"/>
              <a:ext cx="23893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462480" y="450864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vocabula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e vocabulair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Line 15"/>
          <p:cNvSpPr/>
          <p:nvPr/>
        </p:nvSpPr>
        <p:spPr>
          <a:xfrm flipH="1">
            <a:off x="6342120" y="2205000"/>
            <a:ext cx="288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Rectangle 16"/>
          <p:cNvGrpSpPr/>
          <p:nvPr/>
        </p:nvGrpSpPr>
        <p:grpSpPr>
          <a:xfrm>
            <a:off x="5553000" y="1542960"/>
            <a:ext cx="2390760" cy="987480"/>
            <a:chOff x="5553000" y="1542960"/>
            <a:chExt cx="2390760" cy="987480"/>
          </a:xfrm>
        </p:grpSpPr>
        <p:pic>
          <p:nvPicPr>
            <p:cNvPr id="234" name="Rectangle 16" descr=""/>
            <p:cNvPicPr/>
            <p:nvPr/>
          </p:nvPicPr>
          <p:blipFill>
            <a:blip r:embed="rId6"/>
            <a:stretch/>
          </p:blipFill>
          <p:spPr>
            <a:xfrm>
              <a:off x="5553000" y="1542960"/>
              <a:ext cx="23907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910120" y="1557360"/>
              <a:ext cx="2016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harves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issonneur de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Line 17"/>
          <p:cNvSpPr/>
          <p:nvPr/>
        </p:nvSpPr>
        <p:spPr>
          <a:xfrm flipH="1" flipV="1">
            <a:off x="5478120" y="4869000"/>
            <a:ext cx="9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" name="Rectangle 18"/>
          <p:cNvGrpSpPr/>
          <p:nvPr/>
        </p:nvGrpSpPr>
        <p:grpSpPr>
          <a:xfrm>
            <a:off x="5979960" y="4492800"/>
            <a:ext cx="2395800" cy="987120"/>
            <a:chOff x="5979960" y="4492800"/>
            <a:chExt cx="2395800" cy="987120"/>
          </a:xfrm>
        </p:grpSpPr>
        <p:pic>
          <p:nvPicPr>
            <p:cNvPr id="238" name="Rectangle 18" descr=""/>
            <p:cNvPicPr/>
            <p:nvPr/>
          </p:nvPicPr>
          <p:blipFill>
            <a:blip r:embed="rId7"/>
            <a:stretch/>
          </p:blipFill>
          <p:spPr>
            <a:xfrm>
              <a:off x="5979960" y="4492800"/>
              <a:ext cx="23958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42120" y="450864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searc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e recherch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Line 19"/>
          <p:cNvSpPr/>
          <p:nvPr/>
        </p:nvSpPr>
        <p:spPr>
          <a:xfrm flipV="1">
            <a:off x="4757760" y="3715920"/>
            <a:ext cx="647640" cy="79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Rectangle 21"/>
          <p:cNvGrpSpPr/>
          <p:nvPr/>
        </p:nvGrpSpPr>
        <p:grpSpPr>
          <a:xfrm>
            <a:off x="438120" y="4352760"/>
            <a:ext cx="2390760" cy="981360"/>
            <a:chOff x="438120" y="4352760"/>
            <a:chExt cx="2390760" cy="981360"/>
          </a:xfrm>
        </p:grpSpPr>
        <p:pic>
          <p:nvPicPr>
            <p:cNvPr id="242" name="Rectangle 21" descr=""/>
            <p:cNvPicPr/>
            <p:nvPr/>
          </p:nvPicPr>
          <p:blipFill>
            <a:blip r:embed="rId8"/>
            <a:stretch/>
          </p:blipFill>
          <p:spPr>
            <a:xfrm>
              <a:off x="438120" y="4352760"/>
              <a:ext cx="23907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97040" y="436572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md-edi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diteur de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Line 22"/>
          <p:cNvSpPr/>
          <p:nvPr/>
        </p:nvSpPr>
        <p:spPr>
          <a:xfrm>
            <a:off x="2814480" y="4797360"/>
            <a:ext cx="64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Cas d’utilis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ne gestion des ressources produit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estion de l’archive institutionnelle de l’établiss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ne aggrégation de ressources extérieur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e UNR, une 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ne utilisation complèt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Établissement, UNR, UNT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7D461E-BFA8-448C-A3AB-0CBC0073CE1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5D3950-383B-4822-BFE2-BA07D8A45E9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2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255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012D30-A0D6-4598-BCB0-8BCBF7D0CE26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f67"/>
              </a:gs>
              <a:gs pos="50000">
                <a:srgbClr val="76a333"/>
              </a:gs>
              <a:gs pos="100000">
                <a:srgbClr val="a5cf6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 fonctionnalités actuel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De la version 1.0 à la version 1.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ersion 1.0 : fin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férencement et mutualisation 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OAI-PMH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 des ressources pédagogiques 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format LO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0760" indent="-32076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ersion 1.6 : début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implification de l’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arge diffusion et échange des con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Gestion centralisée et transparente des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égration de la GED ESUP-ECM (Nuxe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uveaux types de ressources et formats de métadonn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OMFR / SupLOMFR (profils d’application français du LO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DMFR (moissonnage de l’offre de form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EF (thèses) + lien avec STAR de l’AB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uvelles fonctionnalité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oteur de recherche : flux RSS, profil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438554-52B9-4420-A22A-F57DDE9795A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3D51B5-84C0-42F2-80F7-4BE3DD2EB0C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6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267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1BAF7F-A716-48AA-A6E5-33A1D2AB75B0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931d"/>
              </a:gs>
              <a:gs pos="50000">
                <a:srgbClr val="c56f07"/>
              </a:gs>
              <a:gs pos="100000">
                <a:srgbClr val="f793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ers une général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 déploi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Une généralisation du déploie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jectifs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Stabilisation de la version 1.6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Soutien et aide des établissements au déploie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 plan national de 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ncé en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outien de la SDTICE via les U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tilisation, installation et personnalisation de ORI-O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ahoma"/>
              </a:rPr>
              <a:t>ai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’établissements dans 8 U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EE4A19-4197-4EC1-A6E9-D7F40A51049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Une communauté croissan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e communauté croiss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ahoma"/>
              </a:rPr>
              <a:t>ai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’établissements en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ortail des 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Tahoma"/>
              </a:rPr>
              <a:t>http://www.universites-numeriques.f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l’étra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jet de mutualisation avec le Québ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jet EOMED (Maroc, Tunisie, Jordanie, Liban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elg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454607-01CB-4450-AA8F-564451B4E17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73080" y="71280"/>
            <a:ext cx="727380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692360" y="2214720"/>
            <a:ext cx="738036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3" name="Picture 4" descr=""/>
          <p:cNvPicPr/>
          <p:nvPr/>
        </p:nvPicPr>
        <p:blipFill>
          <a:blip r:embed="rId3"/>
          <a:stretch/>
        </p:blipFill>
        <p:spPr>
          <a:xfrm>
            <a:off x="372960" y="357120"/>
            <a:ext cx="755676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4" name="Picture 5" descr=""/>
          <p:cNvPicPr/>
          <p:nvPr/>
        </p:nvPicPr>
        <p:blipFill>
          <a:blip r:embed="rId4"/>
          <a:stretch/>
        </p:blipFill>
        <p:spPr>
          <a:xfrm>
            <a:off x="1500120" y="1928880"/>
            <a:ext cx="727416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5" name="Picture 2" descr=""/>
          <p:cNvPicPr/>
          <p:nvPr/>
        </p:nvPicPr>
        <p:blipFill>
          <a:blip r:embed="rId5"/>
          <a:stretch/>
        </p:blipFill>
        <p:spPr>
          <a:xfrm>
            <a:off x="755640" y="692280"/>
            <a:ext cx="7594560" cy="50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6" name="Picture 7" descr=""/>
          <p:cNvPicPr/>
          <p:nvPr/>
        </p:nvPicPr>
        <p:blipFill>
          <a:blip r:embed="rId6"/>
          <a:stretch/>
        </p:blipFill>
        <p:spPr>
          <a:xfrm>
            <a:off x="1071720" y="1571760"/>
            <a:ext cx="738000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7" name="Picture 3" descr=""/>
          <p:cNvPicPr/>
          <p:nvPr/>
        </p:nvPicPr>
        <p:blipFill>
          <a:blip r:embed="rId7"/>
          <a:stretch/>
        </p:blipFill>
        <p:spPr>
          <a:xfrm>
            <a:off x="1187280" y="1052640"/>
            <a:ext cx="7594920" cy="50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F17D89-A34E-459C-8E92-B2F5739F349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2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293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E4BBA6-55D7-4922-A522-98076D56EBAE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66ab"/>
              </a:gs>
              <a:gs pos="50000">
                <a:srgbClr val="2d487b"/>
              </a:gs>
              <a:gs pos="100000">
                <a:srgbClr val="3f66a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évolutions à ven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ommai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CEBF1A-E9D4-41F8-B42A-FFBC0A7674C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8360" y="4005360"/>
            <a:ext cx="7831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931d"/>
              </a:gs>
              <a:gs pos="50000">
                <a:srgbClr val="c56f07"/>
              </a:gs>
              <a:gs pos="100000">
                <a:srgbClr val="f793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rs une généralisation du déploi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68360" y="3213000"/>
            <a:ext cx="783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f67"/>
              </a:gs>
              <a:gs pos="50000">
                <a:srgbClr val="76a333"/>
              </a:gs>
              <a:gs pos="100000">
                <a:srgbClr val="a5cf6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fonctionnalités actu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468360" y="2463840"/>
            <a:ext cx="783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254b"/>
              </a:gs>
              <a:gs pos="50000">
                <a:srgbClr val="8e1e3b"/>
              </a:gs>
              <a:gs pos="100000">
                <a:srgbClr val="b2254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architecture pour tous les beso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468360" y="1641600"/>
            <a:ext cx="7831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d8e9"/>
              </a:gs>
              <a:gs pos="50000">
                <a:srgbClr val="68afd2"/>
              </a:gs>
              <a:gs pos="100000">
                <a:srgbClr val="b6d8e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exte et objectifs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468360" y="4767120"/>
            <a:ext cx="783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66ab"/>
              </a:gs>
              <a:gs pos="50000">
                <a:srgbClr val="2d487b"/>
              </a:gs>
              <a:gs pos="100000">
                <a:srgbClr val="3f66a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évolutions à ven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Travaux en cours et à veni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abilisation des fonctionnalité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uveaux types de ressources et formats de métadonn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blications scientifiques en lien avec H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Workflow complet des thèses en lien avec S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Version 2 de ORI-O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égration des retours fonctio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uveaux services et meilleure ergonom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Nouveau moteur de recherche (facettes, aide à la saisie, multilingue, etc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Forte intégration avec la gestion de docu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Statistiqu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Intégration/export avec/vers d’autres out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1D1FB6-F5D9-42FE-8122-BEAE83F32B8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108720"/>
            <a:ext cx="7562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epè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64760"/>
            <a:ext cx="85341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Site du proje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6ea0"/>
                </a:solidFill>
                <a:latin typeface="Tahoma"/>
              </a:rPr>
              <a:t>http://www.ori-oai.or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Contac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F29E44-5922-44B3-A38B-5E1B5491638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250920" y="2852640"/>
            <a:ext cx="8534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Liste de discussion </a:t>
            </a: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ori-oai-utilisateur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6632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86ea0"/>
                </a:solidFill>
                <a:latin typeface="Tahoma"/>
              </a:rPr>
              <a:t>http://listes.univ-rennes1.fr/wws/info/ori-oai-utilisat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Liste d’information </a:t>
            </a: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ori-oai-inf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663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86ea0"/>
                </a:solidFill>
                <a:latin typeface="Tahoma"/>
              </a:rPr>
              <a:t>http://listes.univ-rennes1.fr/wws/info/ori-oai-inf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3280" y="108720"/>
            <a:ext cx="7562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icen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295280"/>
            <a:ext cx="853416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Bookman Old Style"/>
              </a:rPr>
              <a:t>Ce travail est mis à disposition sous une licence Creative Common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Vous êtes lib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85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e reproduire, distribuer et communiquer cette création au public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85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e modifier cette cré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Cette création est mise à disposition selon le Contrat Paternité-NonCommercial-ShareAlike 2.5 disponible en ligne http://creativecommons.org/licenses/by-nc-sa/2.5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Remarque : Les transparents présentés ici ont été réalisés par 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85480">
              <a:lnSpc>
                <a:spcPct val="80000"/>
              </a:lnSpc>
              <a:spcBef>
                <a:spcPts val="349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Yohan Colmant (Université de Valencienn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14F122-F599-436B-8FC4-01D51765DD4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995640" y="2421000"/>
            <a:ext cx="1149120" cy="720360"/>
            <a:chOff x="3995640" y="2421000"/>
            <a:chExt cx="1149120" cy="720360"/>
          </a:xfrm>
        </p:grpSpPr>
        <p:pic>
          <p:nvPicPr>
            <p:cNvPr id="312" name="Picture 4" descr=""/>
            <p:cNvPicPr/>
            <p:nvPr/>
          </p:nvPicPr>
          <p:blipFill>
            <a:blip r:embed="rId1"/>
            <a:stretch/>
          </p:blipFill>
          <p:spPr>
            <a:xfrm>
              <a:off x="4056480" y="2421000"/>
              <a:ext cx="102888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" descr=""/>
            <p:cNvPicPr/>
            <p:nvPr/>
          </p:nvPicPr>
          <p:blipFill>
            <a:blip r:embed="rId2"/>
            <a:stretch/>
          </p:blipFill>
          <p:spPr>
            <a:xfrm>
              <a:off x="3995640" y="2941920"/>
              <a:ext cx="18108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" descr=""/>
            <p:cNvPicPr/>
            <p:nvPr/>
          </p:nvPicPr>
          <p:blipFill>
            <a:blip r:embed="rId3"/>
            <a:stretch/>
          </p:blipFill>
          <p:spPr>
            <a:xfrm>
              <a:off x="4478760" y="2941920"/>
              <a:ext cx="18144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"/>
            <p:cNvPicPr/>
            <p:nvPr/>
          </p:nvPicPr>
          <p:blipFill>
            <a:blip r:embed="rId4"/>
            <a:stretch/>
          </p:blipFill>
          <p:spPr>
            <a:xfrm>
              <a:off x="4963320" y="2941920"/>
              <a:ext cx="181440" cy="199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1682E9-938B-4550-BE1E-6005BD10DA0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126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8BAA12-0ED8-44EA-8C6A-8125D0CBD1D0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1550880" y="2852640"/>
            <a:ext cx="618984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d8e9"/>
              </a:gs>
              <a:gs pos="50000">
                <a:srgbClr val="68afd2"/>
              </a:gs>
              <a:gs pos="100000">
                <a:srgbClr val="b6d8e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exte et objecti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 proj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e la date 6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Espace réservé du pied de page 8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Espace réservé du numéro de diapositive 7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345073-C8EB-4BD2-A3D2-579940FFCDF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Rappel du contex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184040"/>
            <a:ext cx="85327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RI-OAI répond à des besoins complémentaires à différents nivea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s établissements universita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s Universités Numériques Thématiques (U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RI-OAI : projet Open Source inter-UNT soutenu par la SD/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B3B4E9-A53A-405C-A980-D6AF955BED2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e besoin des établisse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Les établissements universitair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roissance de la création numérique institutionnel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cessibilité aux res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férentiel unique de documents, indexation professionnel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« Système Global d’Information 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Mise en place de la démarche « </a:t>
            </a:r>
            <a:r>
              <a:rPr b="1" lang="fr-FR" sz="2700" spc="-1" strike="noStrike">
                <a:solidFill>
                  <a:srgbClr val="000000"/>
                </a:solidFill>
                <a:latin typeface="Tahoma"/>
              </a:rPr>
              <a:t>patrimoine numérique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 » des établissemen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57C31B-E609-44AD-8E8F-FFB6D97D1B9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52670A-0197-45B6-81E8-B0A42AD37F24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e besoin des U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Les UNT (Universités Numériques Thématiques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flexion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volution du portail et choix d’une organisation en « réseau de portails OAI-PMH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vergence sur les besoins de référencement et d’indexation avec l’UNT UV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écessité de mutualiser les outils et les moyens d’accompagnement pour favoriser la démarche avec l’ensemble des 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5D3FE0-04A1-402F-840B-1C164173DE2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Espace réservé du numéro de diapositive 5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74D830-F361-4DA3-9A4F-EF2B4E04B0BF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Les objectifs du proje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ahoma"/>
              </a:rPr>
              <a:t>Gérer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1" lang="fr-FR" sz="2700" spc="-1" strike="noStrike">
                <a:solidFill>
                  <a:srgbClr val="000000"/>
                </a:solidFill>
                <a:latin typeface="Tahoma"/>
              </a:rPr>
              <a:t>publier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 les ressources numériques de l’établissemen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urs, thèses, publications, doc. administratif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Valoriser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la production de l’établissement par une indexation de qualité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Partager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les ressources numériques avec d’autres établissemen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Accéder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aux ressources numériques à </a:t>
            </a: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distance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en fonction des </a:t>
            </a: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droits d’accè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19BA5D-3DE0-4F64-B40C-8B41DBE87C2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e la date 6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Espace réservé du pied de page 8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Espace réservé du numéro de diapositive 7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35F465-DCB7-48CF-927E-5F18F11F5A6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Les objectifs du proje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184040"/>
            <a:ext cx="85327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groupe de travail ORI-OAI vise l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développemen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communautés OAI-PMH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l propose une implémentation de référence du protocole OAI-PMH ainsi que les outils nécessaires à la mise en place de ces communautés et à la bonne intégration aux communautés exis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F95B78-53F6-4F9B-9A79-09FDF230C3A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D197D6-A96B-4880-84F2-9A9A97443AB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162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60C0AC-869C-4509-97EC-68DB8E9C2909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254b"/>
              </a:gs>
              <a:gs pos="50000">
                <a:srgbClr val="8e1e3b"/>
              </a:gs>
              <a:gs pos="100000">
                <a:srgbClr val="b2254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e architecture p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us les beso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ohan</dc:creator>
  <dc:description/>
  <dc:language>en-US</dc:language>
  <cp:lastModifiedBy>Hewlett-Packard Company</cp:lastModifiedBy>
  <dcterms:modified xsi:type="dcterms:W3CDTF">2016-01-13T12:53:36Z</dcterms:modified>
  <cp:revision>451</cp:revision>
  <dc:subject/>
  <dc:title>ORI-OAI: Referencing and Indexing Tool for a Network of OAI Portals</dc:title>
</cp:coreProperties>
</file>